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6D45-C1FC-4674-8B75-02ACB93CF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8ADA-703C-411F-A0A4-71C0E940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0739-0941-46E6-BCD4-617135D09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BB57-EE1D-4DF6-871E-CFDF1C54B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1390-0008-42C0-9E47-A517DF445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D404-22B3-458A-BF06-4A522F50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6D7F-70D3-40B1-A68D-8DB2FE0E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6870-6ABA-484F-92EA-5E7152D3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2A2B-D2C7-4CFB-B4EC-0E7BA8AA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5DE7-31D8-4EEA-AB5B-E93F3D82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2650-1236-4156-B238-9CA7B7E1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0E29-1099-494B-BEB0-97E4B046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8C26-E29A-434E-AB8A-6A347F34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AEB9-AF4E-4BEF-A8B1-0B4E1EE0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CDE5-3D3F-4D32-B0A6-1CCD6634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B03A-112F-42A8-A778-862A53A6E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801A-9F06-46AC-9770-AD7B38626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BCA3-174F-4CCD-B122-3B762C77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A4C2-C827-43A9-9E24-80AC7A08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11E9-6573-4D8D-81B8-F0799598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7F83-B64B-47DD-9238-99DDD754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511B-64D9-4FB7-A020-F31FF920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A41F-D808-4F8F-A097-93337712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17D5-62AB-4541-BB9F-7CE4E68E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E91E-9E2A-4122-A26F-BC5B8924A791}" type="slidenum">
              <a:rPr b="0" lang="it-I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B9FC-0109-49C0-A59D-200A2F3C05BB}" type="slidenum">
              <a:rPr b="0" lang="it-I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it-IT" sz="3800" spc="-1" strike="noStrike">
                <a:solidFill>
                  <a:srgbClr val="006633"/>
                </a:solidFill>
                <a:latin typeface="Garamond"/>
              </a:rPr>
              <a:t>L’ALTRO INIZIA </a:t>
            </a:r>
            <a:br>
              <a:rPr sz="3800"/>
            </a:br>
            <a:r>
              <a:rPr b="1" lang="it-IT" sz="3800" spc="-1" strike="noStrike">
                <a:solidFill>
                  <a:srgbClr val="006633"/>
                </a:solidFill>
                <a:latin typeface="Garamond"/>
              </a:rPr>
              <a:t>DOVE COMINCIA </a:t>
            </a:r>
            <a:br>
              <a:rPr sz="3800"/>
            </a:br>
            <a:r>
              <a:rPr b="1" lang="it-IT" sz="3800" spc="-1" strike="noStrike">
                <a:solidFill>
                  <a:srgbClr val="006633"/>
                </a:solidFill>
                <a:latin typeface="Garamond"/>
              </a:rPr>
              <a:t>LA VOLONTA’ </a:t>
            </a:r>
            <a:br>
              <a:rPr sz="3800"/>
            </a:br>
            <a:r>
              <a:rPr b="1" lang="it-IT" sz="3800" spc="-1" strike="noStrike">
                <a:solidFill>
                  <a:srgbClr val="006633"/>
                </a:solidFill>
                <a:latin typeface="Garamond"/>
              </a:rPr>
              <a:t>DI CAPIRE E INVESTIGARE</a:t>
            </a:r>
            <a:br>
              <a:rPr sz="3800"/>
            </a:br>
            <a:br>
              <a:rPr sz="3800"/>
            </a:br>
            <a:r>
              <a:rPr b="0" lang="it-IT" sz="3800" spc="-1" strike="noStrike">
                <a:solidFill>
                  <a:srgbClr val="006633"/>
                </a:solidFill>
                <a:latin typeface="Garamond"/>
              </a:rPr>
              <a:t>R. Kapuscinski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C068-8D44-422E-85EF-686D467A960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6T16:43:13Z</dcterms:created>
  <dc:creator>narcyso</dc:creator>
  <dc:description/>
  <dc:language>en-US</dc:language>
  <cp:lastModifiedBy>HP</cp:lastModifiedBy>
  <dcterms:modified xsi:type="dcterms:W3CDTF">2014-01-08T19:37:43Z</dcterms:modified>
  <cp:revision>167</cp:revision>
  <dc:subject/>
  <dc:title>Diapositiva 1</dc:title>
</cp:coreProperties>
</file>