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26BFB-75DC-4DD8-9ABE-E13A0BB7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821A3-0990-429C-9FDC-2C695C4E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797B1-9635-4BB6-8674-071EAEF0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3A22F-F9EC-4774-A6FB-63AEB2D5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F4E4-2283-4970-B7A4-10DD3BD3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E5F6-E547-4359-9464-0C9AB7C9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D7FC-D11A-4F43-8193-38EBD5B9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748A-F6F0-4A9B-9EAF-6269A002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5B55-8A63-4D2D-8AAB-3D84167D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015A-E065-410A-874C-792FFE1C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5149-0BFF-4A8C-9B02-1759AD7A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929FC-C0F2-4364-B18C-D3150537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F12C-2F80-43B7-A097-B80B41F5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AC9B-7F87-4304-9829-067EF0B3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1EE4-F67A-47DB-BC03-FE9DA9A1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4F1E-E06B-47CE-A9B1-9616C3DE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3BCF-60AD-4789-9779-D1A438A8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A3BB-7310-4DD6-831D-8A283685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DE9FB-BB27-49B4-8995-8DDCB608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1B5C4-3106-4A87-8E8C-BDBFA9E6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2C637-62B0-458B-82A7-630593E0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9AE33-D44C-4FEC-8BDC-581E9744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EE68C-F2FC-4FE4-966F-CB341CFE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ADEE4-3BA0-4FB6-B8B5-DB8CA95C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87ED-8C74-4302-B86C-CFF2190675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8CA7-B8AC-4723-85DF-89FB56BD9F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218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5 CRITERI PER UNA “LETTURA ECOLOGICA”</a:t>
            </a:r>
            <a:br>
              <a:rPr sz="24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(da utilizzare per “leggere” un intervento in corso o in via di elaborazione)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8991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RICHIESTE / ASPETTATIVE AMBIENTALI NON SODDISFATTE DALLA PERS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CAPACITA’ DELLA PERSONA NON SODDISFATTE DALL’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RICHIESTE / ASPETTATIVE DELLA PERSONA NON SODDISFATTE DALL’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EQUILIBRIO FRA RICHIESTE DELL’AMBIENTE E CAPACITA’ DELLA PERS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COMPORTAMENTI PROBLEMATICI  PER L’AMBIENTE E DISFUNZION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LA PERS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482C2-BAF0-4BCF-A61D-6651FA4620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6:43:13Z</dcterms:created>
  <dc:creator>narcyso</dc:creator>
  <dc:description/>
  <dc:language>en-US</dc:language>
  <cp:lastModifiedBy>HP</cp:lastModifiedBy>
  <dcterms:modified xsi:type="dcterms:W3CDTF">2014-01-16T15:24:46Z</dcterms:modified>
  <cp:revision>211</cp:revision>
  <dc:subject/>
  <dc:title>Diapositiva 1</dc:title>
</cp:coreProperties>
</file>