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B6412-3384-436B-875B-2594185F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53529-554C-4462-8B4A-A2557F67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9B815-B3E4-47CC-9B64-9A5B9BC7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0BE66-47EB-4EBB-BD77-F576A566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FB9D-E2B8-4983-9FD3-DFA97E37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B9B6-67D8-48FF-A92C-9B351317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21AA-D1DF-4FB9-91FC-4FE48162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4B91-8CB4-4B0A-9041-8D17028D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4BA6-6CB4-497E-8AF4-CC93B3DE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D41B-6F26-488D-8D26-AF5565CC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B433-4CB1-403E-9CA6-652CC256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6904F-8CEC-432E-9607-D60C339D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ECBD-C776-47C4-AAA7-24D0BB4E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ECB4-4156-42E0-AADF-9DB02F79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EAC6-0606-4EFE-98FD-1102DF5C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3141-09BF-458A-A49B-F7EB6D64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2F4B-A88D-45E9-AFD0-16F45582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E5364-B286-41D0-B20F-F846A56A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DFF76-63A6-4207-A9A3-C847DACE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FC239-4D6B-4750-801B-656A2531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D7931-3354-4033-9E4D-A20345B1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312AB-2698-496C-B963-ACB0841A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DCEA6-47EF-4D16-870F-767A360D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68883-721E-42E7-8E04-58DEB424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3A27-83B0-4FFB-A86C-1CF43BC108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163C-1BB4-4600-A1DC-B9DFE10182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ENZA ADATTIVA</a:t>
            </a: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3300"/>
                </a:solidFill>
                <a:latin typeface="Arial"/>
                <a:ea typeface="Times New Roman"/>
              </a:rPr>
              <a:t> </a:t>
            </a:r>
            <a:r>
              <a:rPr b="1" lang="it-IT" sz="18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ADATTAMENTO AMBIEN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’ UN PERCORSO DINAMICO DI MATURAZIONE INDIVIDU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L’INTERNO DI UNO SPECIFICO CONTESTO SOCIOCULTUR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UO’ ESSERE DEFINITO CO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A’ DI AGIRE IN MODO AUTON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A’ DI  ASSUMERSI UNA “RESPONSABILITA’ PERSONALE”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UNO SPECIFICO CONTESTO SOCIAL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609480"/>
            <a:ext cx="1218960" cy="106704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16002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F22CE-FB98-469A-9BE7-FC392F9B22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ENZA ADATTIVA</a:t>
            </a: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Arial"/>
                <a:ea typeface="Times New Roman"/>
              </a:rPr>
              <a:t>INDAGARE LE COMPETENZE ADATTIVE SIGNIFIC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ACCOGLIERE DATI RELATIVI AI “COMPORTAMENTI” DELLA PERSONA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I DIVERSI CONTESTI DI VITA QUOTIDIANA FREQUENT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 CONTESTI DI VITA SONO MULTIDIMENS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BIENTE FI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BIENTE NORM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+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BIENTE RELAZION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CF37D-9ACA-480A-B0EB-5D8DE6D90E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ENZA ADATTIV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3300"/>
                </a:solidFill>
                <a:latin typeface="Arial"/>
                <a:ea typeface="Times New Roman"/>
              </a:rPr>
              <a:t> </a:t>
            </a:r>
            <a:r>
              <a:rPr b="1" lang="it-IT" sz="16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UN’INDAGINE SUL LIVELLO DI COMPETENZE ADATTIVE</a:t>
            </a:r>
            <a:r>
              <a:rPr b="1" lang="it-IT" sz="32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RIGUARD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gt;AZIONI DI COMUN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gt;AZIONI DI  APPRENDIMENTO E APPLICAZIONE DELLE CONSE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gt;AZIONI MOT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gt;AZIONI RELATIVE AL MUOVERSI / ORIENT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gt;AZIONI RELATIVE ALLA CURA DELLA PROPRIA 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gt;AZIONI RELATIVE AD ATTIVITA’ DOMEST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gt;AZIONI INTERPERS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gt;AZIONI RELATIVE A COMPITI E ATTIVITA’ DI VITA FONDAMENT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HM00363_" descr=""/>
          <p:cNvPicPr/>
          <p:nvPr/>
        </p:nvPicPr>
        <p:blipFill>
          <a:blip r:embed="rId1"/>
          <a:stretch/>
        </p:blipFill>
        <p:spPr>
          <a:xfrm>
            <a:off x="155520" y="914400"/>
            <a:ext cx="986040" cy="9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1A42C-C42D-4E79-9997-7AB654AB1B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ENZA ADATTIV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Times New Roman"/>
              </a:rPr>
              <a:t>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UN’ANALISI ECOLOGICA EVIDENZ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ABILITA’ RILEVANTI DELLA PERSO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PER CONSENTIRE UN MIGLIORAMENTO DEI MECCANISMI DI ADATT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AL PRESENTE O AL FUTURO CONTESTO DI APPARTEN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’INTERVENTO EDUCATIVO E’ QUINDI RAPPRESENTABIL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E UN AZIONE DI “NORMALIZZAZIONE  POSSIBI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 EQUILIBRIO F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L RISPETTO DELLA  IRRIDUCIBILE SOGGETTIVITA’ DELLA PERSO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 LE RICHIESTE AMBIENTA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124080"/>
            <a:ext cx="838080" cy="1981440"/>
          </a:xfrm>
          <a:custGeom>
            <a:avLst/>
            <a:gdLst>
              <a:gd name="textAreaLeft" fmla="*/ 130680 w 838080"/>
              <a:gd name="textAreaRight" fmla="*/ 733320 w 838080"/>
              <a:gd name="textAreaTop" fmla="*/ 495360 h 1981440"/>
              <a:gd name="textAreaBottom" fmla="*/ 1486080 h 1981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914400"/>
            <a:ext cx="914400" cy="1828800"/>
          </a:xfrm>
          <a:custGeom>
            <a:avLst/>
            <a:gdLst>
              <a:gd name="textAreaLeft" fmla="*/ 142920 w 914400"/>
              <a:gd name="textAreaRight" fmla="*/ 800280 w 91440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E169D-BABC-4557-B2E8-E7D1F3C433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ENZA ADATTIV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7d"/>
                </a:solidFill>
                <a:latin typeface="Arial"/>
                <a:ea typeface="Times New Roman"/>
              </a:rPr>
              <a:t>PER UNA POSITIVA PRESA IN CARICO EDUCATIV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7d"/>
                </a:solidFill>
                <a:latin typeface="Arial"/>
                <a:ea typeface="Times New Roman"/>
              </a:rPr>
              <a:t>A FAVORE DI UNA PERSONA CON AUTIS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7d"/>
                </a:solidFill>
                <a:latin typeface="Arial"/>
                <a:ea typeface="Times New Roman"/>
              </a:rPr>
              <a:t>POSSONO ESSERE INDICATE COME  FONDAMENTA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7d"/>
                </a:solidFill>
                <a:latin typeface="Arial"/>
                <a:ea typeface="Times New Roman"/>
              </a:rPr>
              <a:t>LE AZIONI A SOSTEGNO DELLE COMPETENZE IN MERITO 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cc3300"/>
                </a:solidFill>
                <a:latin typeface="Arial"/>
                <a:ea typeface="Times New Roman"/>
              </a:rPr>
              <a:t>REL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Arial"/>
                <a:ea typeface="Times New Roman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6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cc3300"/>
                </a:solidFill>
                <a:latin typeface="Arial"/>
                <a:ea typeface="Times New Roman"/>
              </a:rPr>
              <a:t>COMUNIC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cc3300"/>
                </a:solidFill>
                <a:latin typeface="Arial"/>
                <a:ea typeface="Times New Roman"/>
              </a:rPr>
              <a:t>AUTONOMIE PERSON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6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cc3300"/>
                </a:solidFill>
                <a:latin typeface="Arial"/>
                <a:ea typeface="Times New Roman"/>
              </a:rPr>
              <a:t>SICUREZZA PERS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6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cc3300"/>
                </a:solidFill>
                <a:latin typeface="Arial"/>
                <a:ea typeface="Times New Roman"/>
              </a:rPr>
              <a:t>COMPETENZE BASE DI GIOCO E AUTO-OCCUPAZIONE COSTRUT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67535-A019-493F-8E9A-7479F43752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NZA ADATTIV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cc3300"/>
                </a:solidFill>
                <a:uFillTx/>
                <a:latin typeface="Arial"/>
              </a:rPr>
              <a:t>IN ALTRE PAROLE L’INTERVENTO DOVREBBE ORIENTARSI 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Arial"/>
              </a:rPr>
              <a:t>CORREGGERE I COMPORTAMENTI DISADAT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Arial"/>
              </a:rPr>
              <a:t>FACILITARE L’EMERGENZA DI DIVERSE COMPETENZE SOCIALI, COGNITIVE, LINGUISTICHE E COMUNICATIVE PER UN FUTURO ADATTAMENTO NEL CONTESTO/I DI V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Arial"/>
              </a:rPr>
              <a:t>FAVORIRE LO SVILUPPO DELL’ADATTAMENTO EMOZIONALE: CONTROLLO DEGLI IMPULSI, MODULAZIONE DEGLI STATI EMOTIVI, IMMAGINE DI S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E67EC-959D-4EE5-9ADD-D9B02A0C1C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ENZA ADATTIV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’ POSSIBILE MISURARE LA PRESENZA DI UNA MENTALITA’ PRO-COMPORTAMENTO ADATTIVO NELLA PROPRIA REALTA’ DI LAVORO UTILIZZANDO I SEGUENTI INDICATOR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CONDIVISIONE IN RETE DELL’AZIONE EDUCATIVA</a:t>
            </a:r>
            <a:r>
              <a:rPr b="1" lang="it-IT" sz="14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SCELTA E CURA DI AMBIENTI DI VITA / INTERVENTO EDUC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IMPORTANZA ATTRIBUITA AD ABILITA’ SOCIALI COME FONDANTI DI QUALSIASI PROGRAMMA D’INTERVENTO FINALIZZATO ALL’INCLUSIONE SOC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ATTIVAZIONE DI PERCORSI DI TRAINING  PER SOSTENERE L’INCREMENTO DI ABILITA’ DI AUTONOMIA PERS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ATTIVAZIONE DI PERCORSI DI TRAINING  PER SOSTENERE L’INCREMENTO DI ABILITA’ DI COMUNIC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cc3300"/>
                </a:solidFill>
                <a:uFillTx/>
                <a:latin typeface="Arial"/>
                <a:ea typeface="Times New Roman"/>
              </a:rPr>
              <a:t>AZIONI ORIENTATE A SOSTENERE UNA MODIFICAZIONE DEI CONTESTI DI VITA EXTRA-SERVIZ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cc3300"/>
                </a:solidFill>
                <a:latin typeface="Arial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cc3300"/>
                </a:solidFill>
                <a:latin typeface="Arial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cc3300"/>
                </a:solidFill>
                <a:latin typeface="Arial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cc3300"/>
                </a:solidFill>
                <a:latin typeface="Arial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cc3300"/>
                </a:solidFill>
                <a:latin typeface="Arial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cc3300"/>
                </a:solidFill>
                <a:latin typeface="Arial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cc3300"/>
                </a:solidFill>
                <a:latin typeface="Arial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cc3300"/>
                </a:solidFill>
                <a:latin typeface="Arial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38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521F8-7807-4E4D-97E1-D1F92BD2FC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ENZA ADATTIV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in conclusion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3300"/>
                </a:solidFill>
                <a:latin typeface="Arial"/>
              </a:rPr>
              <a:t>IL COMPITO DI CHI EDUCA</a:t>
            </a:r>
            <a:r>
              <a:rPr b="1" lang="it-IT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NON E’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OPORRE L’AUTONOMIA PERFETT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A IMPOSSIBILE E INU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cc3300"/>
                </a:solidFill>
                <a:uFillTx/>
                <a:latin typeface="Arial"/>
              </a:rPr>
              <a:t>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3300"/>
                </a:solidFill>
                <a:latin typeface="Arial"/>
              </a:rPr>
              <a:t>TROVARE UNA STRADA PER UN’AUTONOMIA POSSIBILE E U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4F143-D45A-4D69-A09E-8DEF5F935C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16:43:13Z</dcterms:created>
  <dc:creator>narcyso</dc:creator>
  <dc:description/>
  <dc:language>en-US</dc:language>
  <cp:lastModifiedBy>HP</cp:lastModifiedBy>
  <dcterms:modified xsi:type="dcterms:W3CDTF">2014-01-11T15:30:37Z</dcterms:modified>
  <cp:revision>219</cp:revision>
  <dc:subject/>
  <dc:title>Diapositiva 1</dc:title>
</cp:coreProperties>
</file>