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43462-6243-4C51-BADE-AAF2AE07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C5A7-4694-4F6A-A809-AF13D978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8245-C613-48EF-BF21-208E2474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14EE9-C24F-4958-994D-33BED56B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939E-2CE3-497B-AEB7-A99D9ACF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17DF-0C62-4748-BED2-4F7F5E0B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89BF-6DA9-4542-A8DC-9B99D52B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7689-17F2-4D21-B9FC-E107C6ED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33D7-9BF7-41E0-B896-F441BBC8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E9EE-9A90-4DE5-85DC-A8821DD1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1B30-F494-4940-9147-7D0952F7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ED8D-7FDA-411E-8EE7-A5329E10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3BA8-5A69-497B-9F7D-3DA58EAC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009C-D0D7-4131-8CEE-4C058A87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17A3-F3C0-4064-B9E6-E614C4FB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2EEE-BF65-4317-8B9B-18A3691A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CB6E-20F6-46D7-BC5A-4DE16AF9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B1BA-7687-42F2-8A6F-9DB38043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C7E8-68B2-4F03-AA3F-74406344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099BE-629B-4CE2-A235-829B5072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14C0A-611A-4147-9602-73350872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21DBE-0FE0-44F8-9C47-1C6A884B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13EBD-E4C2-4B7F-B851-0652BEA3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D68ED-7C18-4880-9141-24546B6A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B724-D5DB-47D2-852A-F41BD09D27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FADD-DA68-4A58-BBD4-037FDB201B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. E. A. C. C. H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MENT AND EDUCATION OF AUTISTIC AND RELATED COMMUNICATION HANDICAPPED CHILDR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Una considerazione preliminare…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ESISTE UN INTERV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ATTO A TUTTE LE PERSONE CON AUT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ESISTE UN INTERV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ATTO A TUTTE LE ETA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ESISTE UN INTERV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DONEO A RISPONDERE A TUT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MOLTEPLICI ESIGENZE LEGATE ALL’AUTISMO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87E37-9F6F-465B-9F23-66CF719E13F7}" type="slidenum">
              <a:t>1</a:t>
            </a:fld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. E. A. C. C. H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cc3300"/>
                </a:solidFill>
                <a:uFillTx/>
                <a:latin typeface="Arial"/>
              </a:rPr>
              <a:t>    </a:t>
            </a:r>
            <a:r>
              <a:rPr b="1" lang="it-IT" sz="2000" spc="-1" strike="noStrike" u="sng">
                <a:solidFill>
                  <a:srgbClr val="cc3300"/>
                </a:solidFill>
                <a:uFillTx/>
                <a:latin typeface="Arial"/>
              </a:rPr>
              <a:t>SOSTENERE L’APPRENDIMENTO: AMBITI / MACRO AR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&gt; COMUNICAZIONE FUNZIONA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&gt; ABILITA’ DI AUTONOMIA PERSONALE PER LA VITA QUOTIDIANA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(AUTONOMIA PERSONALE, ABILITA’ DOMESTICHE, VITA DI COMUNITA’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&gt; SVILUPPO COGNI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(MEMORIA ATTENZIONE PERCEZIONE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&gt; SOCIALIZZ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(RELAZIONE INTERPERSONALE, GIOCO E TEMPO LIBERO, REGOLE SOCIALI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&gt; PREVENZIONE E RIDUZIONE DEI PROBLEMI DI COMPORT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&gt; ABILITA’ SCOLASTICHE CURRICOLA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&gt; MOTRICITA’ FINE E GLOB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06A53-8557-45B8-BB85-C091C57AAF84}" type="slidenum">
              <a:t>10</a:t>
            </a:fld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. E. A. C. C. H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cc3300"/>
                </a:solidFill>
                <a:uFillTx/>
                <a:latin typeface="Arial"/>
              </a:rPr>
              <a:t>SOSTENERE L’APPRENDIMENTO / INTERVENIRE SUL CONT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&gt; STRUTTURARE GLI SPAZ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&gt; STRUTTURARE I TEM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&gt; INSERIRE NEL CONTESTO, ISTRUZIONI SCRITTE, AIUTI VISIVI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MMAGINI, DISEGNI, OGGETTI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6FDCD-36D4-4E1A-BA3A-F7170285D17F}" type="slidenum">
              <a:t>11</a:t>
            </a:fld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. E. A. C. C. H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TRUTTURARE UN CONTESTO EDUCAT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SIGNIFICA RENDERL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DIVIDUALIZZA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GGIB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VEDIB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RATIFIC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1E627-1A2E-43CC-8155-01264C207A3E}" type="slidenum">
              <a:t>12</a:t>
            </a:fld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. E. A. C. C. H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3640" y="1828440"/>
            <a:ext cx="8667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GIRE SULLA PREVEDIBILITA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&gt; AMBIENTE FISICO STRUTTURA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ov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&gt; CONTESTO TEMPORALE STRUTTURAT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ando ?  in quale sequenza ?  per quanto tempo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SEGNA ORGANIZZ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e cosa e come devo fare ? quanto lavoro devo svolgere ?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 quale sequenza ? quando ho finito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1112C-C5DD-46FC-AEBE-59EC095943F5}" type="slidenum">
              <a:t>13</a:t>
            </a:fld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. E. A. C. C. H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1219320"/>
            <a:ext cx="8667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IUTI VISI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 CHIARIRE L’USO DELLO SPAZ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 STRUTTURARE IL TEM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 FAVORIRE LA COMUNICAZI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 SOSTENERE LA CAPACITA’ DI SCEL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 ANTICIPARE CAMBIAME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 INFORMARE SULLE REGOLE DI UN CONT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 INSEGNARE  ABILIT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04110-8EC4-4F5E-B00C-50E86D25011F}" type="slidenum">
              <a:t>14</a:t>
            </a:fld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. E. A. C. C. H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In conclusione  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it-IT" sz="2000" spc="-1" strike="noStrike" u="sng">
                <a:solidFill>
                  <a:srgbClr val="cc3300"/>
                </a:solidFill>
                <a:uFillTx/>
                <a:latin typeface="Arial"/>
              </a:rPr>
              <a:t>CARATTERISTICHE INTERVENTO EFFIC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ECOCITA’ DELL’INTERV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GRAMMA INTENSI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IANIFICAZIONE E INDIVIDUALIZZAZIONE DELL’INTERV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GARANZIA TEMPO DEDICATO AL RAPPORTO 1:1 E AL LAVORO IN MICRO GRUPP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INVOLGIMENTO DELLA FAMIGLIA E PARENT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GGIORNAMENTO PERIODICO DELLA VALUTAZIONE E RICALIBRAZIONE DELL’INTERV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E57D6-E3D8-42F6-964A-AC2C8827BF2C}" type="slidenum">
              <a:t>15</a:t>
            </a:fld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. E. A. C. C. H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: ”IL TRATTAMENTO DEI DISTURBI DELLO SPETTRO AUTISTICO NEI BAMBINI E NEGLI ADOLESCENTI” – SISTEMA NAZIONALE PER LE LINEE GUIDA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ACCOMANDAZI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PROGRAMMA TEACCH HA MOSTRATO …DI PRODURRE MIGLIORAMENT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ULLE ABILITA’ MOTORIE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COGNITIV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FUNZIONAMENTO SOCIA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 LA COMUNICAZION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BAMBINI CON DISTURBI DELLO SPETTRO AUTISTIC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’ POSSIBILE IPOTIZZARE UN PROFILO DI EFFICA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 FAVORE DI TALE INTERVENTO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HE MERITA DI ESSERE APPROFONDITO IN ULTERIORI STUDI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B8769-F096-423F-A0D7-A03D330D2BE3}" type="slidenum">
              <a:t>2</a:t>
            </a:fld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. E. A. C. C. H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828440"/>
            <a:ext cx="8667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POSSIBILI PUNTI DI FORZA DI UNA PERSONA CON AUTISMO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bilità tipiche relativamente preservate nella maggior parte dei casi di disturbi dello spettro autist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ENSIERO VISIV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APACITA’ DI SEGUIRE ROUT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APACITA’ DI ESEGUIRE  CONSEGNE VISIVE  O SCRIT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APACITA’ DI COGLIERE I DETTAGL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ECISI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APACITA’ DI USARE CONGEGNI MECCANICI ED ELETTRONIC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B6261-E876-46A2-9268-C7EC279B91CD}" type="slidenum">
              <a:t>3</a:t>
            </a:fld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. E. A. C. C. H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1828440"/>
            <a:ext cx="8667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SSIBILE FUNZIONAMENTO COGNITIVO IN UNA PERSONA CON AUTIS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enzione - memoria - percezione - funzioni cognitive variamente alte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NZIONE IPERSELETTIVA / IPOSELETTIVA SCARSAMENTE REGOL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IA VERBALE-UDITIVA DEFICITARIA RISPETTO A QUELLA VIS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ZIONE FLUTTUANTE E IRREGOLARE CON DIFFICOLTA’ DI INTEGRAZIONE PERCET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2150C-0DC3-4683-8970-519E1733D090}" type="slidenum">
              <a:t>4</a:t>
            </a:fld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. E. A. C. C. H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SSIBILI MODALITA’ DI APPRENDIMENTO IN UNA PERSONA CON AUTIS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DIFFICOLTA’ DI GENERALIZZAZ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h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ATEGORIZZAZIONE AVVIENE SULLA BASE DI INFORMAZIONI PARZI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h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APPRENDIMENTO E’ “CONTESTO DIPENDENT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2895480"/>
            <a:ext cx="990720" cy="838440"/>
          </a:xfrm>
          <a:custGeom>
            <a:avLst/>
            <a:gdLst>
              <a:gd name="textAreaLeft" fmla="*/ 132480 w 990720"/>
              <a:gd name="textAreaRight" fmla="*/ 858240 w 99072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419720"/>
            <a:ext cx="990720" cy="990360"/>
          </a:xfrm>
          <a:custGeom>
            <a:avLst/>
            <a:gdLst>
              <a:gd name="textAreaLeft" fmla="*/ 132480 w 990720"/>
              <a:gd name="textAreaRight" fmla="*/ 858240 w 99072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6440E-6975-41FB-82A2-C59099CC5E07}" type="slidenum">
              <a:t>5</a:t>
            </a:fld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.E.A.C.C.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42472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NALITA’ /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GLIORARE LA QUALITA’ DELLA VI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LA PERSONA CON AUTISM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LE PERSONE CHE NE HANNO C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6445-936A-4A4D-B927-314ED8A9706C}" type="slidenum">
              <a:t>6</a:t>
            </a:fld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. E. A. C. C. H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2421000"/>
            <a:ext cx="8569080" cy="36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NALITA’ /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MENTARE / MIGLIOR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  ABILITA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LA PERSONA CON AUTISMO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624D-2A05-46D6-9EDD-F2A07F84AFCC}" type="slidenum">
              <a:t>7</a:t>
            </a:fld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. E. A. C. C. H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828440"/>
            <a:ext cx="8362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CUNI PRINCIPI CHI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ZZO DEI  PUNTI DI FORZA INDIVIDUAL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LLA DEFINIZIONE DEL PROGRAMMA D’INTERV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TAZIONE PERMANENTE DELLE CAPACITA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LA PERSONA PER POTENZIARNE I SUCCES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ATTAMENTO STRUTTURALE INDIVIDUALIZZATO DELL’AMBIENTE IN FUNZIONE DEI DEFICIT DELL’AUTISMO PER AIUTARE LA PERSONA A COMPRENDERNE IL SENS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78AA4-FFDC-4DC9-9B15-4AB20F14D5BA}" type="slidenum">
              <a:t>8</a:t>
            </a:fld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. E. A. C. C. H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362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ALCUNI PRINCIPI CHI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ATTAMENTO E  VISUALIZZAZIONE DELLE CONSEG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R AUMENTARE L’INDIPENDENZA ESECUTIV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ETTURA DEI COMPORTAMENTI PROBLEMATIC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E LEGATI ALLA DIFFICOLTA’  DELLA PERSONA  NEL COMPRENDERE IL SENSO E LE ASPETTTIVE DEL CONTE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INVOLGIMENTO DEI FAMILIAR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E COLLABORATORI INDISPENSABILI NEL LAVORO SVOLTO DALL’EQUIPE MULTIDISCIPLIN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3C5F1-26C7-455F-85D0-77CA173473F7}" type="slidenum">
              <a:t>9</a:t>
            </a:fld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6:43:13Z</dcterms:created>
  <dc:creator>narcyso</dc:creator>
  <dc:description/>
  <dc:language>en-US</dc:language>
  <cp:lastModifiedBy>HP</cp:lastModifiedBy>
  <dcterms:modified xsi:type="dcterms:W3CDTF">2014-01-11T17:56:06Z</dcterms:modified>
  <cp:revision>245</cp:revision>
  <dc:subject/>
  <dc:title>Diapositiva 1</dc:title>
</cp:coreProperties>
</file>