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678-9FDD-4D86-9BBE-362EF502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218-6E0C-4DC5-BF14-7F58E87E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175-EEC2-4841-994C-7433267D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618-F2DE-44B9-90B3-AD4C6BF4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30E0-0E12-494E-8BC9-0E7745AD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4A01-73B8-48CE-95E1-CE493AEA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9D23-7F5A-4BA8-B7A0-4D584FC0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2338-F5DB-4F43-85CA-ADC7B5D5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B9FC-94A9-4D5F-A3E5-ECA1B794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6F3A-6053-40DB-96BD-C912DA98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AAE2-A41F-4777-B057-DE6073F7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91B-60CC-4DE2-BB59-3DDA963D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92F9-E104-4DB9-B5EB-606B944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EC0A-4EB0-473E-A4B9-F101D0BB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8BDC-DC46-4908-920F-86CB3A8F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FD64-6901-4E6D-9D1D-B0B0E779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B6E1-4859-4B89-9804-C19BCD34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95C-73B5-40A1-84FF-5AEF5A5D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FA8-94E1-4D0C-9D99-D302783F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E4A-1D3C-4EA9-A023-BD76D9CB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CFF-4960-43B1-AE52-25D11417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8BF-5475-45D8-A234-07A12F35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792-AA91-4770-8553-DCBE74E1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C60-E27D-4EEE-A1F8-0888379C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EA0C-3C2A-49A4-87DE-E3F2C495DB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179F-850D-4733-82C6-D870521550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INSERIRE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INTEGRARE</a:t>
            </a:r>
            <a:br>
              <a:rPr sz="4700"/>
            </a:b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INCLUDERE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7720" y="3809880"/>
            <a:ext cx="76201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ME 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AVENDO CURA DELL’ALTR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F28C-CC5A-4462-8A30-3756585E8C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CHE COSA SIGNIFICA </a:t>
            </a:r>
            <a:br>
              <a:rPr sz="4800"/>
            </a:br>
            <a:r>
              <a:rPr b="1" lang="it-IT" sz="4800" spc="-1" strike="noStrike">
                <a:solidFill>
                  <a:srgbClr val="cc3300"/>
                </a:solidFill>
                <a:latin typeface="Arial"/>
              </a:rPr>
              <a:t>AVERE CURA</a:t>
            </a: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BD00028_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1725480" cy="148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055-48CA-47AB-938E-6F388BBFA7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AVERE C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9280" y="152388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GNIF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VERE ATTENZIONE AI BISOGN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OSTENERE NEL PERCORSO DI VI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35053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eaeb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2A7-C41C-491D-95D7-0CE8C853C7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AVERE C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SIGNIFIC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Verdana"/>
              </a:rPr>
              <a:t>COLTIVARE LE POSSIBILITA’ DELL’ALT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0000"/>
                </a:solidFill>
                <a:uFillTx/>
                <a:latin typeface="Verdana"/>
              </a:rPr>
              <a:t>DARE SENSO ALLE AZIONI DELL’ALT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43B4-3109-4441-870A-0A40FE52E8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OME SI IMPARA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Verdana"/>
              </a:rPr>
              <a:t>FACENDO ESPERIENZ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 GLI OGGETTI, I GIOCHI, LE PERSONE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Verdana"/>
              </a:rPr>
              <a:t>DIVENTANDO CONSAPEVO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 SE’ E DELLE PROPRIE CAPACITA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NEI CONTESTI CHE L’INSEGNANTE PREDISPONE A SCUO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5E7-B636-48F2-92AD-991F358635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CHE COSA SI APPRENDE </a:t>
            </a: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A SCUOL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(ma anche in famiglia)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I IMPARA A STARE E A CONOSCERE IL MONDO E SE STESS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I SCOPRE IL PROPRIO CORPO E IL MODO IN CUI PUO’ AG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I CAPISCE COME COMUNICARE E INTERAGIRE CON GLI ALT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I APPRENDE A RICONOSCERE E GOVERNARE I PROPRI BISOG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I IMPARA A SENTIRE, IMMAGINARE, PENSARE, PARLARE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BS00554_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990720" cy="128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A57-E367-419F-9A55-1E27CF6976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OMMA…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 u="sng">
                <a:solidFill>
                  <a:srgbClr val="cc3300"/>
                </a:solidFill>
                <a:uFillTx/>
                <a:latin typeface="Arial"/>
              </a:rPr>
              <a:t>SI IMPARA TUTTO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 per questa ragione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l’esperienza della scuola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è ritenuta cruciale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er lo sviluppo delle potenzialità e della personalità di ognuno di no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09B-47C0-45E7-92A1-B7A41E0AC4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 SCUOLA INCLUSIV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OGLI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UC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MUOVE AUTONOMI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LLE PERS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BD06662_" descr=""/>
          <p:cNvPicPr/>
          <p:nvPr/>
        </p:nvPicPr>
        <p:blipFill>
          <a:blip r:embed="rId1"/>
          <a:stretch/>
        </p:blipFill>
        <p:spPr>
          <a:xfrm>
            <a:off x="7162920" y="914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BFE-64B6-45F4-97A8-C8DF27B923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6:43:13Z</dcterms:created>
  <dc:creator>narcyso</dc:creator>
  <dc:description/>
  <dc:language>en-US</dc:language>
  <cp:lastModifiedBy>HP</cp:lastModifiedBy>
  <dcterms:modified xsi:type="dcterms:W3CDTF">2014-01-11T15:28:02Z</dcterms:modified>
  <cp:revision>236</cp:revision>
  <dc:subject/>
  <dc:title>Diapositiva 1</dc:title>
</cp:coreProperties>
</file>