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5F0-B1BE-425F-B814-CDE9E9A1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3FF-49F3-43D2-A0F4-E42B6392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CB7-AFD7-43F2-B727-0A9C13F4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7CE-2F16-4492-AEA6-897D460A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05B-968D-494E-A3B8-4D988896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83B-567C-4D42-97E3-0F1D4BE6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88B-EC44-4684-BA0E-8780593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867-DB9F-4362-AF8A-135EFDF3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1E84-AB8A-4947-84A5-AF3EB863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3D2-B746-4477-854B-4E3748B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5AA-4DC5-457C-86EC-BD9EA0BF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1B7-8960-4E39-860B-B9F423A0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E5F9-47D7-4528-9D26-9EEF195E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355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L TRATTAMENTO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I DISTURBI DELLO SPETTRO AUTISTICO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I BAMBINI E NEGLI ADOLESCENTI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L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NAZIONALE PER LE LINEE GUID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TO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E0F-3187-44C0-BBE2-96FA63F546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NTEGRATORI ALIMEN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0920" y="12193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MAN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828800"/>
            <a:ext cx="20574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52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NON SONO DISPONIBI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E SCIENTIFICHE SUFFICIENTI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ORMULARE UNA RACCOMANDAZIO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LL’UTILIZZO DEGLI INTREGRATORI ALIMENTARI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TAMINA B6 / MAGNESIO / OMEGA-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L TRATTAMENT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I DISTURBI DELLO SPETTRO AUT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D8F-4CF6-4BBD-AB97-308477F312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TERAPIA CON OSSIGENO IPERBA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50920" y="12193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MAN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1828800"/>
            <a:ext cx="20574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52680"/>
            <a:ext cx="91440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 u="sng">
                <a:solidFill>
                  <a:srgbClr val="ff6600"/>
                </a:solidFill>
                <a:uFillTx/>
                <a:latin typeface="Arial"/>
              </a:rPr>
              <a:t>NON E’ RACCOMANDAT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ERCHE’ 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’ STATA DIMOSTRATA LA SUA INEFFICACIA </a:t>
            </a:r>
            <a:br>
              <a:rPr sz="24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PRODURRE UN MIGLIORAMEN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 SOGGETTI CON DISTURBI DELLO SPETTRO AUTI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2AB-0AE0-45AC-945A-17B556015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NTERVENTI MEDIATI DAI GENI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920" y="12193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MAN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1828800"/>
            <a:ext cx="20574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 PROGRAMMI DI INTERVENTO MEDIATI DAI GENITOR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SONO RACCOMANDAT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CHE’ POSSON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IGLIORARE LA COMUNICAZIONE SOCIALE E I COMPORTAMENTI 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IUTARE LE FAMIGLIE A INTERAGIRE CON I LORO FIG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MUOVERE LO SVILUPPO E L’INCREMENTO DELLA SODDISFAZIONE DEI GEN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L LORO 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EMPOWERMENT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E BENESSERE EMO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68C-1BE2-409D-B671-6FB363CAD6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PROGRAMMA TEAC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2193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MAN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1828800"/>
            <a:ext cx="20574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352680"/>
            <a:ext cx="91440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 PROGRAMMA TEACCH HA MOSTRATO…DI PRODURRE MIGLIORAMENTI S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ABILITA’ MOTORI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PERFORMANCE COGNI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 FUNZIONAMENTO SOCI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COMUNIC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 CUI E’ POSSIBILE IPOTIZZARE UN PROFILO DI EFFICACIA A FAVORE DI TALE INTERVENTO, CHE MERITA DI ESSERE APPROFONDI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A38-FC40-4149-9243-85F3E0ABA9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NTERVENTI COMPORTAMENTALI INTENSIVI STRUTTUR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2193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MAND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E PROVE A DISPOSIZIONE, ANCHE SE NON DEFINITIVE, CONSENTONO DI CONSIGLIARE L’UTILIZZO DEL MODELLO ABA NEL TRATTAM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MERGE COMUNQUE UN TREND DI EFFICACIA A FAVORE DI ALTRI PROGRAMMI…CHE LA RICERCA DOVREBBE APPROFONDIRE PER ACCERTARE QUALE FRA I VARI PROGRAMMI SIA IL PIU’ EFFIC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’ PRESENTE UN’AMPIA VARIABILITA’ INDIVIDUALE NEGLI ESITI OTTENUTI DAI PROGRAMMI…E’ QUINDI NECESSARIO CHE VENGA EFFETTU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UNA VALUTAZIONE CLINICA CASO-SPECIF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R MONITORARE L’EFFICACIA DEL TRATTAM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1828800"/>
            <a:ext cx="20574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F7F-F5BC-400F-A37E-8B3432F368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INTERVENTI DI SUPPORTO ALLE ABILITA’ COMUN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0920" y="12193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MAN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828800"/>
            <a:ext cx="20574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895480"/>
            <a:ext cx="9144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’UTILIZZO DI INTERVENTI A SUPPORTO DELLA COMUNICAZIONE…COME QUELLI CHE UTILIZZANO UN SUPPORTO VISIVO… E’ INDICATO, SEBBENE LE PROVE DI EFFICACIA DI QUESTI INTERVENTI SIANO ANCORA PARZ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LORO UTILIZZO DOVREBBE ESSERE CIRCOSTANZIATO E ACCOMPAG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 UNA SPECIFICA VALUTAZIONE DI EFFI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081-CFC8-43F0-870B-306AB0B24D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INTERVENTI PER LA COMUNICAZIONE SOCIALE E L’IN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0920" y="12193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MAN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828800"/>
            <a:ext cx="20574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895480"/>
            <a:ext cx="914400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L’UTILIZZO DI INTERVENTI A SUPPORTO DELLA COMUNICAZIONE SOCIALE VANNO PRESI IN CONSIDERAZIONE…LA SCELTA DI QUALE SIA L’INTERVENTO PIU’ APPROPRIATO DA EROGARE DEVE ESSERE FORMULATA SULLA BASE DI UNA VALUTAZIONE DELLE CARATTERISTICHE INDIVIDUALI DEL SOGG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’ CONSIGLIABILE ADATTARE L’AMBIENTE COMUNICATIVO, SOCIALE E FISICO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- FORNIRE SUGGERIMENTI VIS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IDURRE LE RICHIESTE DI INTERAZIONI SOCIALI COMPLE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GUIRE UNA ROUTINE, UN PROGRAMMA PREVED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UTILIZZARE DEI SUGGER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- MINIMIZZARE LE STIMOLAZIONI SENSORIALI DISTURB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2DE-111B-4524-B18C-2C33EAD7B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USICOTERA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50920" y="12193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MAN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828800"/>
            <a:ext cx="20574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52680"/>
            <a:ext cx="9144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CI SONO PROVE SCIENTIFICHE SUFFICI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ORMULARE UNA RACCOMANDAZIONE SULL’UTILIZZO DELLA MUSICOTERAP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 DISTURBI DELLO SPETTRO AUTI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B0E-4535-4EDA-8180-FA6F6DEE3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COMUNICAZIONE FACILIT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920" y="12193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COMAN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 RACCOMANDA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NON UTILIZZ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COMUNICAZIONE FACILIT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E MEZZO PER COMUNI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 I BAMBINI E ADOLESC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 DISTURBI DELLO SPETTRO AUTI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1828800"/>
            <a:ext cx="2057400" cy="976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71A-7BBB-474C-BF49-BC9E23F71F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DIETE DI ELIMINAZIONE DI CASEINA E/O GL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50920" y="609480"/>
            <a:ext cx="864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MAN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N SONO DISPONIBILI PROVE SCIENTIFICHE SUFFICI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 FORMULARE UNA RACCOMANDAZIONE… 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INCHE’ NON SARANNO DISPONIBILI DATI ULTERIORI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RACCOMANDA CHE LE DIETE SIANO UTILIZZATE </a:t>
            </a:r>
            <a:br>
              <a:rPr sz="1600"/>
            </a:br>
            <a:br>
              <a:rPr sz="1600"/>
            </a:br>
            <a:r>
              <a:rPr b="1" lang="it-IT" sz="1600" spc="-1" strike="noStrike" u="sng">
                <a:solidFill>
                  <a:srgbClr val="ff6600"/>
                </a:solidFill>
                <a:uFillTx/>
                <a:latin typeface="Arial"/>
              </a:rPr>
              <a:t>SOL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CASO DI ALLERGIE O INTOLLERANZE ALIMENTARI ACCERTATE</a:t>
            </a:r>
            <a:br>
              <a:rPr sz="1600"/>
            </a:br>
            <a:br>
              <a:rPr sz="1600"/>
            </a:br>
            <a:r>
              <a:rPr b="1" lang="it-IT" sz="1600" spc="-1" strike="noStrike" u="sng">
                <a:solidFill>
                  <a:srgbClr val="ff6600"/>
                </a:solidFill>
                <a:uFillTx/>
                <a:latin typeface="Arial"/>
              </a:rPr>
              <a:t>NON PER IL TRATTAMENT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I SINTOMI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I DISTURBI DELLO SPETTRO AUTI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I RACCOMANDA CHE I SINTOMI GASTROINTESTINALI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ESENTI NEI BAMBINI / ADOLESCENTI CON DISTURBI DELLO SPETTRO AUTISTICO </a:t>
            </a:r>
            <a:br>
              <a:rPr sz="1600"/>
            </a:br>
            <a:br>
              <a:rPr sz="1600"/>
            </a:br>
            <a:r>
              <a:rPr b="1" lang="it-IT" sz="1600" spc="-1" strike="noStrike" u="sng">
                <a:solidFill>
                  <a:srgbClr val="ff6600"/>
                </a:solidFill>
                <a:uFillTx/>
                <a:latin typeface="Arial"/>
              </a:rPr>
              <a:t>VENGANO TRATTATI NELLO STESSO MOD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CUI SONO TRATTATI NEI COETANEI 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NZA DISTURBI DELLO SPETTRO AUTI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1143000"/>
            <a:ext cx="22860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52280" y="137160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BEE-B7B4-4CD7-B140-9D317FA382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2T20:01:31Z</dcterms:modified>
  <cp:revision>209</cp:revision>
  <dc:subject/>
  <dc:title>Diapositiva 1</dc:title>
</cp:coreProperties>
</file>