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05B-AD54-49AC-9063-8B74461D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755-C5C7-4CB5-A346-A8E8DAF5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487-32EF-489D-BF29-85D87965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A22-EB10-49A2-99A0-54CA4B5E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0777-C5CC-4C09-8780-2B62C765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0884-F2EE-48B7-A735-AAC1D58C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E322-50F0-4D78-84D5-6A569B3A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A6F3-27E2-4325-A1E5-0DAA738F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34AE-67D1-463F-9CC9-C6910E4B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57D0-89B9-4E07-8AC5-E4E4CFD7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9E18-69B5-4DA4-BD4E-845D5F26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43A-32EB-4C9D-BAC6-EE667100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92FF-B269-4B11-990C-AD06F40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0AC0-397D-46F0-BE45-9A157B2E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9FA1-D999-40B0-AD43-C8BD852E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9BF9-1364-46A2-A758-A37704E1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BC98-B994-4E60-95B5-12157DDF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D76A-218B-4CD0-B798-7CEC688D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4BD-1250-4410-A058-9CA6A4B9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052C-1ED2-4721-841B-8A05D532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4C6-2602-4CC1-9110-46FC850B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23F-F256-4BAC-91D0-100E5EF1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A80-AF4A-40F7-A69A-5B738012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1740-822E-4DC0-B4B5-0F4801DE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D68A-B846-444C-9195-9ADF03D713E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1DB9-29AD-49A9-A186-8CFA33BA2E3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ZIONI PER LA PRESA IN CA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Verdana"/>
              </a:rPr>
              <a:t>OSSERVAZIO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Verdana"/>
              </a:rPr>
              <a:t>+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Verdana"/>
              </a:rPr>
              <a:t>VALUTAZION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Verdana"/>
              </a:rPr>
              <a:t>+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Verdana"/>
              </a:rPr>
              <a:t>STESURA PROFILO FUNZIONA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Verdana"/>
              </a:rPr>
              <a:t>+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Verdana"/>
              </a:rPr>
              <a:t>ELABORAZIONE P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Verdana"/>
              </a:rPr>
              <a:t>+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Verdana"/>
              </a:rPr>
              <a:t>VERIFIC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086600" y="304920"/>
            <a:ext cx="1666800" cy="1752480"/>
            <a:chOff x="7086600" y="304920"/>
            <a:chExt cx="1666800" cy="1752480"/>
          </a:xfrm>
        </p:grpSpPr>
        <p:sp>
          <p:nvSpPr>
            <p:cNvPr id="94" name="Gear"/>
            <p:cNvSpPr/>
            <p:nvPr/>
          </p:nvSpPr>
          <p:spPr>
            <a:xfrm>
              <a:off x="8010720" y="304920"/>
              <a:ext cx="742680" cy="803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86600" y="636120"/>
              <a:ext cx="888120" cy="9604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62600" y="990360"/>
              <a:ext cx="986760" cy="10670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4BD-1EA3-459B-9471-E51E2C7B51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6:43:13Z</dcterms:created>
  <dc:creator>narcyso</dc:creator>
  <dc:description/>
  <dc:language>en-US</dc:language>
  <cp:lastModifiedBy>HP</cp:lastModifiedBy>
  <dcterms:modified xsi:type="dcterms:W3CDTF">2014-01-10T19:55:59Z</dcterms:modified>
  <cp:revision>162</cp:revision>
  <dc:subject/>
  <dc:title>Diapositiva 1</dc:title>
</cp:coreProperties>
</file>