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61E-A573-4C7F-A1DE-1012F026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570-3384-4843-94BA-B0EFEA6C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1F5-ACD5-4CF1-B1F3-0E06AD5D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2FC-B35D-4432-9294-041FF6F8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E9C-523E-4B00-AC2C-76B8A9DC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CDA3-9D75-4648-87D5-AF0DE7A4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6F93-CE01-4A3F-B694-9C0D1F2E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DACD-18C7-4AFA-A023-4EADBBB8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1B3E-7AFA-443E-8938-357048FE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A344-8BA9-474D-A0B7-97690C61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49FB-1D68-461B-BF23-D4A1105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3096-FBBE-4392-8F02-A0018286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936A-AA1E-4F2C-8F7A-FD285EF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EF23-43CD-4087-ABEC-B88BC63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1C8-A175-4BAF-AC6A-1D267B28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5338-676B-4E13-99A4-1CB2C147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118B-F8A3-4E4B-9169-679D2452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7B7-46A0-4914-BAD5-F9367DD2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704-6154-44BB-96EB-0DCCCEBD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A74-DBA7-4E02-989A-61C1271D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87B-5E86-49C0-9CF0-3FABD89D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E11-88C4-44D7-8F38-ED49220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947-C6EB-45A6-B588-21AE891E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067-5892-4560-AB6D-0DA60F3F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ED8D-967C-4857-A5D6-B202E224B5C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966-A776-47C2-B271-95B9A19D8E1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4575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MIGLIA / AU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CUNE CONSIDERAZIO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CANZA DI INTERAZIONE CON IL FIGLI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carsa o nessuna  partecipazione emotiva alla vita di famigl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ONE PROBLEMI COMPORTAMENTALI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RENSIONE SOCIAL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giudizi e “ignoranza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ERTEZZA PER IL FUTUR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ICA E IMPOSSIBILITA’ A SVOLGERE UNA VITA NORMAL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415-9FE7-4D46-B299-645BDAD05D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AMIGLIA / AUT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LA SCUOLA PUO’ FARE MOL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ALORIZZAZIONE DELL’ESPERIENZA FAMI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AZIONE / FORMAZIONE IN 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ANIFICAZIONE CONDIVISA DELLA PRESA IN CA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IUTO SOCIALE ED EMO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588-109C-4477-848A-9E8B3F5D3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30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AMIGLIA / AU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336666"/>
                </a:solidFill>
                <a:uFillTx/>
                <a:latin typeface="Arial"/>
              </a:rPr>
              <a:t>ALCUNE INDICAZIONI PER UNA POSITIVA GESTIONE DEL RAPPORTO SCUOLA                FAMIG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NFORMARE I GENITORI SULLE MODALITA’ DI PRESA IN CA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IEDERE AI GENITORI QUALI SIANO LE LORO ASPET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HIEDERE AI GENITORI QUALI SIANO GLI OBIETTIVI PER LORO RILEVA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EVEDERE UNA DIVERSA FREQUENZA DEI COLLOQUI FORMALI NEL CORSO DELL’ANNO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(SITUAZIONI ECCEZIONALI RICHIEDONO RISPOSTE FUORI DALLA NORMA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NENDO UN CALENDARIO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EI COLLOQUI PREVISTI NEL CORSO DELL’AN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EPARE I COLLOQUI PER EQUILIBRARE ASPETTI POSITIVI E INFORMAZIONI RELATIVE A CRITICITA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VITARE GLI INCONTRI INFORMALI E CASUALI, SE NECESSARIO VARIARE LA FREQUENZA DEGLI INCONTRI PROGRAMM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RESENTARE IL PEI E CONSEGNARNE UNA COPIA AI GENITORI AFFINCHE’  POSSANO LEGGERLO CON ATTENZIONE PRIMA DI SOTTOSCRIVERLO, CONFERMANDO LA DISPONIBILITA’ AD UN INCONTRO PER UN’ULTERIORE CONDIVI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914400"/>
            <a:ext cx="533520" cy="457200"/>
          </a:xfrm>
          <a:prstGeom prst="leftRightArrow">
            <a:avLst>
              <a:gd name="adj1" fmla="val 50000"/>
              <a:gd name="adj2" fmla="val 23230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487-EC98-4A7C-B45A-E9F37C27A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AMIGLIA / AUT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336666"/>
                </a:solidFill>
                <a:uFillTx/>
                <a:latin typeface="Arial"/>
              </a:rPr>
              <a:t>ALCUNE INDICAZIONI PER UNA POSITIVA GESTIONE DEL RAPPORTO SCUOLA                FAMI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ARE UN DIARIO PER UNA COMUNICAZIONE QUOTIDIANA SCUOLA-FAMIG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SPESSO LA PERSONA CON AUTISMO NON RACCONTA O HA DIFFICOLTA’ NEL FARLO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PORRE AI GENITORI DI UTILIZZARE IL DIARIO DI COMUNICAZIONE PER RIFERIRE ALLA SCUOLA INFORMAZIONI RELATIVE ALLA VITA DEL FIGLIO IN AMBITO FAMILIAR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ATTIVITA’ QUOTIDIANE, EVENTI ECCEZIONALI, MA ANCHE RITMO VEGLIA – SONNO, ALIMENTAZIONE…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ERIFICARE LA DISPONIBILITA’ DEI GENITORI A FORNIRE UNA DOCUMENTAZIONE VISIV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FOTOGRAFIE, FILMATI, OGGETTI …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LATIVA AD ATTIVITA’ SVOLTE DAL FIGLIO, PER POTERLA UTILIZZARE IN UN LAVORO SCOLASTICO BASATO SU CONCRETE ESPERIENZE DI VIT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ARE UNA DOCUMENTAZIONE VISIV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FOTOGRAFIE, FILMATI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CONCRETA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(QUADERNI, MANUFATTI)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 FAR “VEDERE” AI GENITORI IL PROPRIO FIGLIO NELLA REALTA’ DEL CONTESTO SC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457200"/>
            <a:ext cx="609480" cy="485640"/>
          </a:xfrm>
          <a:prstGeom prst="leftRightArrow">
            <a:avLst>
              <a:gd name="adj1" fmla="val 50000"/>
              <a:gd name="adj2" fmla="val 24984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B9E-EFCA-455A-B9F2-D2E230EDE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12-16T13:47:18Z</dcterms:modified>
  <cp:revision>179</cp:revision>
  <dc:subject/>
  <dc:title>Diapositiva 1</dc:title>
</cp:coreProperties>
</file>