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FF9-2BD0-4237-A70F-87C63A9D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570-B3D0-4B14-A896-36E7E784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588-E31C-4EF0-A7F9-A4233F2D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E90-895F-43FB-A464-4B2D4653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FE6-91E1-4042-BC32-4E88FE83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1E3-7FD9-40EF-A6A7-4ED95B01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D75-9E6A-4766-83E2-66D9F762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E71-35E1-428A-AD56-6D9D57C6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96F-9FCE-4BC2-8062-8AB99CB9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A3C4-E1F5-4009-A555-3A1A80D5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D289-5F0C-4E94-9A44-17341D81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A92-8FD2-4CB8-B6D1-BE5AFFDD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18F0-9493-4E10-B959-F74208F31A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 SCUOLA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LINEE GUIDA PER L’AUTISMO – S.I.N.P.I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N L’ADOLESCENZA MOLTI COMPORTAMENTI POSSONO SUBIRE UN DRASTICO MIGLIORAMENT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ENTRE ALTRI POSSONO PEGGIORARE NOTEVOL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E PERTUTTI GLI ALTRI ADOLESCENTI, ANCHE I BAMBINI CON AUTISMO, CRESCENDO, FANNO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NTI CON LE DIFFICOLTA’ DI ADATTAMENTO DEL CORPO CHE CAMBIA, LA SESSUALIT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EMERGENTE, LE TRASFORMAZIONI NEI PROCESSI DI PENSIERO E  NELLE CAPACITA’ 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OSSERVAZIONE E VALUTAZIONE DI SE’ E DEL MONDO CIRCOSTA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E TENSIONI E IL SENSO DI CONFUSIONE CHE ACCOMPAGNANO LO SVILUPPO PUBERALE, POSSO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ETERMINARE NELL’ADOLESCENTE AUTISTICO UN INCREMENTO DELL’ISOLAMENTO, 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PORTAMENTI STEREOTIPATI O LA COMPARSA DI AGGRESSIVITA’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ALLO STESSO TEMPO, PER LA MAGGIORE SENSIBILITA’ AGLI ASPETTI DI CONFRONTO SOCI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HE LA FASE DI SVILUPPO COMPORTA, L’ADOLESCENTE CON AUTISMO, SOPRATTUTTO SE M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PROMESSO DAL PUNTO DI VISTA COGNITIVO, PUO’ FARE I CONTI PER LA PRIMA VOLTA 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LA CONSAPEVOLEZZA DELLE PROPRIE DIFFERENZE RISPETTO AI COETANEI (MANCANZA DI AMICI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 INTERESSI CONDIVISIBILI, DI PROGETTI PER IL FUTURO).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QUESTO ASPETTO PUO’ FAR EMERGERE DISTURBI DELL’UMORE, CHE NECESSITANO DI U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TRATTAMENTO SPECIFICO. VA CONSIDERATO CHE LA VARIABILITA’ ESPRESSIVA DI QUES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OMPLESSE DINAMICHE E’ TALE CHE NON POSSONO ESSERE FORNITE INDICAZIONI PRESTABILI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MA BISOGNA NECESSARIAMENTE FAR RICORSO A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ROGRAMMI PERSONALIZZA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 SCUOLA E’ UNO SPAZIO PRIVILEGIA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VORISCE/SOSTIENE GLI APPRENDIMENTI ACCADEM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OMUOVE  LA CONOSCENZA / ”COMPRENSION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LLE REGOLE CHE DEFINISCONO I RAPPORTI INTERPERSONALI    E LE SITUAZIONI SOC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ORNISCE OCCASIONI DI INTERAZIONE SOCIALE E COMUNICAZIONE FUN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TIMOLA L’INIZIATIVA PERSONALE E LA DIVERSIFIC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 INTERESSI ED ATTIVIT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SCU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LI APPRENDIMENTI ACCADEMI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(LETTURA, SCRITTURA, CALCOLO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UNQUE DA SOLLECITARE E SOSTEN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ANNO UNA FUNZIONE ABILITATI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RCHE’ FACILITANO LE FUNZIONI AD ESSI ASSOCI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TTE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TROLLO MO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DERENZA ALLA RICHI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NFORZO INTRINSE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I DOMANDE DA PORSI PER UN INTERVENTO EFFICACE </a:t>
            </a:r>
            <a:br>
              <a:rPr sz="1800"/>
            </a:b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A FAVORE DEGLI APPRENDIMENTI ACCADEMICI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OTTENGO L’ATTENZIONE DEL MIO ALLIEVO PRIMA DI DARE LA CONSEGNA / INTRODURRE UN ARGOMENT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UTILIZZO UN CODICE COMUNICATIVO  ADEGUATO AL SUO LIVELLO DI COMPRENS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FORNISCO TUTTE  LE INFORMAZIONI NECESSARIE ALL’ESECUZIONE IL PIU’ POSSIBILE INDIPENDENTE DELLA CONSEGN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PREDISPONGO I MATERIALI DI LAVORO IN FORMA ORGANIZZ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FORNISCO AIUTO, SE NECESSARIO ALLA CONCLUSIONE POSITIVA DELLA CONSEGN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FORNISCO UN  RISCONTRO CHIARO PER LE RISPOSTE E I COMPORTAMENTI SCORRET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GRATIFICO IN MANIERA ADEGUATA, PER QUALITA’ E FREQUENZA DEL RINFORZO, L’ESECUZIONE / IL COMPORTAMENTO CORRET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A SCU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HE COSA SOSTENERE  NELL’AMBITO SOCIA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CILITARE LA CONSAPEVOLEZZA DI INTENZIONI / ESPERIENZE / CONOSCENZE ALTR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STENERE LA CAPACITA’ DI RACCONTARE ESPERIENZE PERS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VILUPPARE L’ABILITA’ DI MANTENERE / MODIFICARE IL TEMA DI CONVERSAZIONE SECONDO LA PROSPETTIVA DELL’ASCOLT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STENERE L’ ESPRESSIONE DI SENTIMENTI ED EMPAT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VILUPPARE LE CAPACITA’ DI  MEDIARE / RISOLVERE CONFLITTI E/O DIVERGENZE D’OPIN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imes New Roman"/>
              </a:rPr>
              <a:t>A SCU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HE COSA SOSTENERE NELL’AMBITO LINGUISTICO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’UTILIZZO DI UN LINGUAGGIO STRUTTURATO AVANZA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es. congiunzioni - proposizioni subordinat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’UTILIZZO / RICONOSCIMENTO  DELLE CONVENZIONI VERB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NECESSARIE PER INIZIARE / CONCLUDERE UNA CONVERSAZIONE   E        INTERAGIRE A TU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’UTILIZZO DI SEGNALI NON VERBALI  UTILI A RINFORZ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E INTENZIONI SOCI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(es. lo sguardo, la posizione del corpo, il volume della voc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’UTILIZZO DI LINGUAGGI ADEGUATI AI DIVERSI  CONTESTI SOCIAL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D AI SEGNALI NON VERBALI DELL’INTERLOCU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16:41:36Z</dcterms:created>
  <dc:creator>arnaldo</dc:creator>
  <dc:description/>
  <dc:language>en-US</dc:language>
  <cp:lastModifiedBy>HP</cp:lastModifiedBy>
  <dcterms:modified xsi:type="dcterms:W3CDTF">2014-01-16T16:24:13Z</dcterms:modified>
  <cp:revision>33</cp:revision>
  <dc:subject/>
  <dc:title>PowerPoint Presentation</dc:title>
</cp:coreProperties>
</file>