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713-214F-4D24-9A9D-95FAA265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94FE-C40D-40A5-B884-A973CDA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6A0-E27B-4003-9746-775EB96A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B8D-3DFE-4B11-A5E7-A79866D5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82C-A30F-495D-9537-3510341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27AF-134F-4686-B533-8541AB6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7C5-0A14-4574-815D-9FAB6400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030-5293-43D3-B95D-C4D8DE5B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832-0258-472C-B8DA-2699930C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8DC-F766-4F45-A23B-786FF38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26F-1ABE-4BC0-B317-914AED4C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292-17AB-4692-B452-6B519094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83C-A1B9-467E-8225-4D7DC245B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349360"/>
            <a:ext cx="784044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A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 (PROVARE A) TROV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POSSIBILE SOLU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UN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9FE-1006-47A2-9C5A-D029C62CD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372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6. VALUTARE I RISULTATI OTTENU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VEDERE IL PIANO D’INTER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CEGLIERE UN’ALTRA SOL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SEGUIRE L’INTERV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981080"/>
          <a:ext cx="8229600" cy="1968480"/>
        </p:xfrm>
        <a:graphic>
          <a:graphicData uri="http://schemas.openxmlformats.org/drawingml/2006/table">
            <a:tbl>
              <a:tblPr/>
              <a:tblGrid>
                <a:gridCol w="3362400"/>
                <a:gridCol w="4867200"/>
              </a:tblGrid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DI FORZA DELLA SOLUZIONE ATTU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DEBOLI DELLA SOLUZIONE ATTU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762120" y="43434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952880"/>
            <a:ext cx="1828800" cy="2286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5562720"/>
            <a:ext cx="2743200" cy="2286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B72-A92F-4814-9AA7-F6EBFE4C6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RE UN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ALIZZARE UN OBI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47E-B423-4D3C-B595-B56E22E0C6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-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4920" y="1371600"/>
            <a:ext cx="8497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IVERE TUTTI I COMPORTAMENTI PROBLEMATICI DELLA PERSO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DE9-1928-40AA-84B1-F7E4A97C8B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394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RE IL COMPORTAMENTO PROBLEMA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L QUALE SI VUOLE INTERVEN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SPLICITANDO IL CRITERIO DI SCE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996-B4C8-44F3-B4AD-76011DD6A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– 5</a:t>
            </a:r>
            <a:r>
              <a:rPr b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ZIONE SCRITTA DEL COMPORTAMENT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16000" y="1052640"/>
          <a:ext cx="6769080" cy="5472000"/>
        </p:xfrm>
        <a:graphic>
          <a:graphicData uri="http://schemas.openxmlformats.org/drawingml/2006/table">
            <a:tbl>
              <a:tblPr/>
              <a:tblGrid>
                <a:gridCol w="2448000"/>
                <a:gridCol w="432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 cosa avviene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quale contesto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chi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do ?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o dura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quale frequenza si manifesta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cciamo di solito al manifestarsi del comportamento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esaspera il comportamento 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diminuire il comportamento 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2934-D165-4E96-966C-08B8B70F63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vantaggi di un comportamento definito in maniera chiar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tti sanno di che cosa si tratta e discutono della stessa 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nta più facile stabilire obiettivi realistici piuttosto che irraggiungib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enta più facile capire se e quando l’obiettivo è stato raggi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24080"/>
            <a:ext cx="304920" cy="790560"/>
          </a:xfrm>
          <a:custGeom>
            <a:avLst/>
            <a:gdLst>
              <a:gd name="textAreaLeft" fmla="*/ 47520 w 304920"/>
              <a:gd name="textAreaRight" fmla="*/ 267120 w 3049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304920" cy="990720"/>
          </a:xfrm>
          <a:custGeom>
            <a:avLst/>
            <a:gdLst>
              <a:gd name="textAreaLeft" fmla="*/ 47520 w 304920"/>
              <a:gd name="textAreaRight" fmla="*/ 267120 w 3049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410080"/>
            <a:ext cx="304920" cy="1019160"/>
          </a:xfrm>
          <a:custGeom>
            <a:avLst/>
            <a:gdLst>
              <a:gd name="textAreaLeft" fmla="*/ 47520 w 304920"/>
              <a:gd name="textAreaRight" fmla="*/ 267120 w 304920"/>
              <a:gd name="textAreaTop" fmla="*/ 254880 h 1019160"/>
              <a:gd name="textAreaBottom" fmla="*/ 764640 h 1019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3BD-05AE-4A29-9F6F-3A490A4C66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EI AZIONI PER INTERVENIRE SUL COMPORTAMENTO 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ELENCARE LE POSSIBILI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VALUTARE I PRO E I CO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CIASCUNA SOLUZIONE PROP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SCEGLIERE LA SOLUZIONE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ASE ALLE PROPRIE RIS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7D5-432A-4BB8-97C2-9AEB59DE1F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E UN PIANO DETTAGLIA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re la responsabilità di chi interv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hi fa cosa, come, quand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re le date di verifica del piano d’inter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e un elenco di risorse e informazioni necess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e un elenco dei possibili ostacoli da supe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505-0CF0-48BE-A117-AD1DE7BF0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3300"/>
                </a:solidFill>
                <a:uFillTx/>
                <a:latin typeface="Arial"/>
              </a:rPr>
              <a:t>INTERVENTO EDUCATIVO SUL COMPORTAMENTO PROBLEMA -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. METTERE IN ATTO LA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2276640"/>
          <a:ext cx="7777440" cy="2589120"/>
        </p:xfrm>
        <a:graphic>
          <a:graphicData uri="http://schemas.openxmlformats.org/drawingml/2006/table">
            <a:tbl>
              <a:tblPr/>
              <a:tblGrid>
                <a:gridCol w="936720"/>
                <a:gridCol w="1511280"/>
                <a:gridCol w="2376360"/>
                <a:gridCol w="1295640"/>
                <a:gridCol w="16574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RTAMENTO PROBLE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HO F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 HA REAGITO LA PERS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1A9-D722-4E41-A95B-819957B46A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1T16:30:34Z</dcterms:modified>
  <cp:revision>281</cp:revision>
  <dc:subject/>
  <dc:title>Diapositiva 1</dc:title>
</cp:coreProperties>
</file>