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600-0A35-4001-B4C2-11A9B7FB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A2F-37EB-4B01-B647-98185D7C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DBC-EC62-4046-B703-3466FDD5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53F-69BD-466E-B291-74166911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9AE8-CC7F-4C7D-9DFF-26A9C565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16B2-3533-4B0A-B5E7-4E6DF1E5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9FA3-9719-47BB-9C43-9C39B4FB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71DA-F8AD-4A9E-A628-46A6534E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8331-5E66-4E1A-B86D-FB3B2081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A695-269F-4D09-A9CE-17837AA9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DE2B-1E69-4216-BBFF-4FCEFF52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996C-A758-468D-9DFD-868514DC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29D9-F153-4456-81CD-7CE55AB7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DE3A-D12A-4738-AE1D-72091482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DDF0-0AA0-4F96-A1D1-CEF80A52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408E-C751-46AC-91B0-1B7055C4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307C-503A-45AF-AFB6-CF137F2F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1C3A-E837-445A-8C52-7D469665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94D-14E4-4C96-A068-A4F135DA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C7E-FFCB-4CAE-A9B3-8169B94F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D7A-855F-4BF2-AD30-6E90D025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8E4-C6E8-4DF7-9235-92F3152A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FC5B-9066-488F-9044-BC94A7C3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290-AEF2-427E-B6DB-76A64858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61E5-65C8-4567-A705-752451EC6F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9E54-B492-44AD-B3D9-F4260B4AA6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INTERAZIONE SOCIALE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91440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SA FA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IMA DI FORMULA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 PROGETTO D’INTERVEN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FAVORE DELLE CAPACITA’ SOCI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4495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1480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7">
                <a:moveTo>
                  <a:pt x="11905" y="14285"/>
                </a:moveTo>
                <a:lnTo>
                  <a:pt x="11905" y="12327"/>
                </a:lnTo>
                <a:cubicBezTo>
                  <a:pt x="11905" y="11500"/>
                  <a:pt x="12236" y="10804"/>
                  <a:pt x="12837" y="10804"/>
                </a:cubicBezTo>
                <a:cubicBezTo>
                  <a:pt x="13968" y="10804"/>
                  <a:pt x="14865" y="9437"/>
                  <a:pt x="14865" y="7853"/>
                </a:cubicBezTo>
                <a:cubicBezTo>
                  <a:pt x="14865" y="5538"/>
                  <a:pt x="13011" y="3797"/>
                  <a:pt x="10800" y="3797"/>
                </a:cubicBezTo>
                <a:cubicBezTo>
                  <a:pt x="8589" y="3797"/>
                  <a:pt x="6918" y="5538"/>
                  <a:pt x="6918" y="7853"/>
                </a:cubicBezTo>
                <a:lnTo>
                  <a:pt x="8772" y="7853"/>
                </a:lnTo>
                <a:cubicBezTo>
                  <a:pt x="8772" y="6713"/>
                  <a:pt x="9695" y="5825"/>
                  <a:pt x="10800" y="5825"/>
                </a:cubicBezTo>
                <a:cubicBezTo>
                  <a:pt x="11905" y="5825"/>
                  <a:pt x="12837" y="6713"/>
                  <a:pt x="12837" y="7853"/>
                </a:cubicBezTo>
                <a:cubicBezTo>
                  <a:pt x="12837" y="8593"/>
                  <a:pt x="12367" y="9324"/>
                  <a:pt x="11905" y="9324"/>
                </a:cubicBezTo>
                <a:cubicBezTo>
                  <a:pt x="10800" y="9324"/>
                  <a:pt x="9695" y="10804"/>
                  <a:pt x="9695" y="12327"/>
                </a:cubicBezTo>
                <a:lnTo>
                  <a:pt x="9695" y="14285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1EA-BB54-41B8-A6A3-B45F9E0C9C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00"/>
                </a:solidFill>
                <a:latin typeface="Garamond"/>
              </a:rPr>
              <a:t>SINDROME ASPERGER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ABILITA’ DI AFFILIAZIONE</a:t>
            </a:r>
            <a:r>
              <a:rPr b="1" lang="en-US" sz="1800" spc="-1" strike="noStrike">
                <a:solidFill>
                  <a:srgbClr val="999900"/>
                </a:solidFill>
                <a:latin typeface="Garamond"/>
              </a:rPr>
              <a:t> / </a:t>
            </a:r>
            <a:r>
              <a:rPr b="1" lang="en-US" sz="1800" spc="-1" strike="noStrike" u="sng">
                <a:solidFill>
                  <a:srgbClr val="666600"/>
                </a:solidFill>
                <a:uFillTx/>
                <a:latin typeface="Garamond"/>
              </a:rPr>
              <a:t>ALCUNE IPOTESI D’INTERVENTO:</a:t>
            </a:r>
            <a:r>
              <a:rPr b="1" lang="en-US" sz="18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1 FAR VEDERE COME E QUANDO SALUTARE SIMULANDO SITUAZION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2 PROPORRE DI OSSERVARE E REPLICARE LE STRATEGIE UTILIZZATE DAGLI ALTRI PER INIZIARE O CONCLUDERE UNA CONVERS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3 RIFLETTERE INSIEME ALLA PERSONA SULLE CAUSE DI EVENTUALI FALLIMENTI DURANTE TENTATIVI DI APPROC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4 CREARE SITUAZIONI CHE STIMOLINO LA NECESSITA’ DI RIVOLGERSI AD UN COMPAG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469-6F4D-4DFA-BBAA-475578C4E2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00"/>
                </a:solidFill>
                <a:latin typeface="Garamond"/>
              </a:rPr>
              <a:t>SINDROME ASPERGER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ABILITA’ DI AFFILIAZIONE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/ </a:t>
            </a:r>
            <a:r>
              <a:rPr b="1" lang="en-US" sz="1800" spc="-1" strike="noStrike" u="sng">
                <a:solidFill>
                  <a:srgbClr val="666600"/>
                </a:solidFill>
                <a:uFillTx/>
                <a:latin typeface="Garamond"/>
              </a:rPr>
              <a:t>ALCUNE IPOTESI D’INTERVENTO:</a:t>
            </a:r>
            <a:r>
              <a:rPr b="1" lang="en-US" sz="1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 MOSTRARE E SPIEGARE I GESTI CHE VENGONO NORMALMENTE UTILIZZATI E IL LORO SIGNIFICATO ALLENANDO LA PERSONA AL LORO U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 GUIDARE LA PERSONA NELL’OSSERVAZIONE DEL LINGUAGGIO GESTUALE UTILIZZATO DAI COETANEI, OFFRENDO LE SPIEGAZIONI NECESSAR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 SPIEGARE CHIARAMENTE ALLA PERSONA COME GLI ALTRI POSSONO INTERPRETARE ERRONEAMENTE IL SUO LINGUAGGIO GESTUAL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AD ESEMPIO: LO SGUARDO SFUGGENT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 ORGANIZZARE SITUAZIONI DI GRUPPO  DURANTE LE QUALI A TURNO TUTTI I SOGGETTI INTERPRETINO DIVERSI RU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1B3-3BB7-4276-9281-DDEE0D0C74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00"/>
                </a:solidFill>
                <a:latin typeface="Garamond"/>
              </a:rPr>
              <a:t>SINDROME ASPERGER</a:t>
            </a:r>
            <a:br>
              <a:rPr sz="14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ABILITA’ DI GESTIONE DEI CONFLITTI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Garamond"/>
              </a:rPr>
              <a:t>DUE ABILITA’ DI BASE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* ACCETTARE I COMPROME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* REAGIRE ADEGUATAMENTE ALLA DERISI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O A EPISODI DI BULLISM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D07-1943-466D-B3D1-C2A16E16F0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9900"/>
                </a:solidFill>
                <a:latin typeface="Garamond"/>
              </a:rPr>
              <a:t>SINDROME ASPERGER</a:t>
            </a:r>
            <a:br>
              <a:rPr sz="24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Garamond"/>
              </a:rPr>
              <a:t>ABILITA’ DI GESTIONE DEI CONFLITTI</a:t>
            </a:r>
            <a:r>
              <a:rPr b="1" lang="en-US" sz="1600" spc="-1" strike="noStrike">
                <a:solidFill>
                  <a:srgbClr val="999900"/>
                </a:solidFill>
                <a:latin typeface="Garamond"/>
              </a:rPr>
              <a:t> / </a:t>
            </a:r>
            <a:r>
              <a:rPr b="1" lang="en-US" sz="1600" spc="-1" strike="noStrike" u="sng">
                <a:solidFill>
                  <a:srgbClr val="666600"/>
                </a:solidFill>
                <a:uFillTx/>
                <a:latin typeface="Garamond"/>
              </a:rPr>
              <a:t>ALCUNE IPOTESI D’INTERVENTO:</a:t>
            </a:r>
            <a:r>
              <a:rPr b="1" lang="en-US" sz="16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IDENTIFICARE INSIEME ALLA PERSONA QUALI SITUAZIONI SEMBRANO PIU’ FRUSTRA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 INSEGNARE A RICONOSCERE I SEGNALI VERBALI E NON VERBALI CHE PRECEDONO UN CONFLIT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 PRESENTARE SITUAZIONI SOCIALI NELLE QUALI SIANO IDENTIFICABILI PIU’ COMPORTAMENTI ACCETTABI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 DOPO UN EVENTUALE CONFLITTO, AIUTARE LA PERSONA AD ANALIZZARE  QUANTO ACCADU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 ESPLICITARE LE CONSEGUENZE POSITIVE O NEGATIVE CHE I SUOI COMPORTAMENTI POSSONO AVERE PER GLI ALT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018-8E45-4C80-9A75-4F5719A116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00"/>
                </a:solidFill>
                <a:latin typeface="Garamond"/>
              </a:rPr>
              <a:t>SINDROME ASPERGER</a:t>
            </a:r>
            <a:br>
              <a:rPr sz="14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Garamond"/>
              </a:rPr>
              <a:t>ABILITA’ DI GESTIONE DEI CONFLITTI</a:t>
            </a:r>
            <a:r>
              <a:rPr b="1" lang="en-US" sz="1600" spc="-1" strike="noStrike">
                <a:solidFill>
                  <a:srgbClr val="999900"/>
                </a:solidFill>
                <a:latin typeface="Garamond"/>
              </a:rPr>
              <a:t> / </a:t>
            </a:r>
            <a:r>
              <a:rPr b="1" lang="en-US" sz="1600" spc="-1" strike="noStrike" u="sng">
                <a:solidFill>
                  <a:srgbClr val="666600"/>
                </a:solidFill>
                <a:uFillTx/>
                <a:latin typeface="Garamond"/>
              </a:rPr>
              <a:t>ALCUNE IPOTESI D’INTERVENTO:</a:t>
            </a:r>
            <a:r>
              <a:rPr b="1" lang="en-US" sz="16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6 INCORAGGIARE LA PERSONA A RACCONTARE QUAN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VVENUTO A SCUO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7 NON RIMPROVERARE PERCHE’ LA SITUAZIONE NON E’ STATA AFFRONTATA IN MODO CORRET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8 SPIEGARE CHE GLI ADULTI SE INFORMATI POSSO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IUTAR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9 NON ESPORRE LA PERSONA A SITUAZIONI IMBARAZZANT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AVANTI ALLA CLAS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10 GUIDARE IL GRUPPO A RICONOSCERE LE QUALITA’ DI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IASCU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A9F-98D4-46C0-B688-7C2844597C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9900"/>
                </a:solidFill>
                <a:latin typeface="Garamond"/>
              </a:rPr>
              <a:t>SINDROME ASPERGER</a:t>
            </a:r>
            <a:br>
              <a:rPr sz="1600"/>
            </a:br>
            <a:r>
              <a:rPr b="0" lang="en-US" sz="16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Garamond"/>
              </a:rPr>
              <a:t>ABILITA’ DI GESTIONE DEI CONFLITTI</a:t>
            </a:r>
            <a:r>
              <a:rPr b="1" lang="en-US" sz="1600" spc="-1" strike="noStrike">
                <a:solidFill>
                  <a:srgbClr val="999900"/>
                </a:solidFill>
                <a:latin typeface="Garamond"/>
              </a:rPr>
              <a:t> / </a:t>
            </a:r>
            <a:r>
              <a:rPr b="1" lang="en-US" sz="1600" spc="-1" strike="noStrike" u="sng">
                <a:solidFill>
                  <a:srgbClr val="666600"/>
                </a:solidFill>
                <a:uFillTx/>
                <a:latin typeface="Garamond"/>
              </a:rPr>
              <a:t>ALCUNE IPOTESI D’INTERVENTO:</a:t>
            </a:r>
            <a:r>
              <a:rPr b="1" lang="en-US" sz="16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2400"/>
            </a:br>
            <a:endParaRPr b="0" lang="en-US" sz="1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11 FORNIRE REGOLE SCRITTE DI COMPORTA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12 FORNIRE UNO SCHEMA SCRITTO CHE AIUTI LA PERSO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D AUTOVALUTARE IL PROPRIO COMPORTAMENTO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212-04CF-4988-BBD5-A076CB6A05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ff0000"/>
                </a:solidFill>
                <a:latin typeface="Verdana"/>
              </a:rPr>
              <a:t>UNA RIFLESSIO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 u="sng">
                <a:solidFill>
                  <a:srgbClr val="000000"/>
                </a:solidFill>
                <a:uFillTx/>
                <a:latin typeface="Verdana"/>
              </a:rPr>
              <a:t>SENTIRSI BENE DENTRO IL GRUPPO</a:t>
            </a: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 u="sng">
                <a:solidFill>
                  <a:srgbClr val="000000"/>
                </a:solidFill>
                <a:uFillTx/>
                <a:latin typeface="Verdana"/>
              </a:rPr>
              <a:t>E’</a:t>
            </a: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IL PRODOTTO DI UN INSEGNAMENT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 u="sng">
                <a:solidFill>
                  <a:srgbClr val="000000"/>
                </a:solidFill>
                <a:uFillTx/>
                <a:latin typeface="Verdana"/>
              </a:rPr>
              <a:t>NON E’</a:t>
            </a: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IL PUNTO DI PARTENZ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BD06990_" descr=""/>
          <p:cNvPicPr/>
          <p:nvPr/>
        </p:nvPicPr>
        <p:blipFill>
          <a:blip r:embed="rId1"/>
          <a:stretch/>
        </p:blipFill>
        <p:spPr>
          <a:xfrm flipH="1" rot="10800000">
            <a:off x="6629400" y="304560"/>
            <a:ext cx="1808280" cy="21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85BB-3328-438C-A537-0C167F55F4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IN CONCLUSIONE</a:t>
            </a:r>
            <a:r>
              <a:rPr b="0" i="1" lang="en-US" sz="13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’APPREND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ERV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LA PERSONA CON AUTISM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 SOCIALIZZ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 NON IL CONT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A22-ABC1-49E6-B754-7F159C8F21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INTERAZIONE SOCIALE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OSSERVAR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LA CAPACITA’ D’INIZIATIVA NELL’INTERAZIONE SOCIA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LE MODALITA’ DI RISPOSTA SOCIA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come reagisce la persona all’avvicinarsi di un compagno/adulto?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LA PRESENZA DI COMPORTAMENTI INOPPORTUN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ripetitivi, stereotipati, bizzarr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L’ENTITA’ DELL’INTERFERENZA DI TALI COMPORTAMENTI NELLE SINGOLE SITUAZIONI SOCIAL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LA CAPACITA’ DI ADATTAMENTO AL CAMBIAMENT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4FB-146B-49C0-ADF6-039961131E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INTERAZIONE SOCIALE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ALCUNI COMPORTAMENTI OSSERVABILI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INCAPACITA’/SCARSO DESIDERIO DI ALLACCIARE AMICIZ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 INCAPACITA’ DI SOSTENERE AMICIZ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 DIFFICOLTA’ AD INIZIARE O MANTENERE UNA CONVERSA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 DIFFICOLTA’ A VALUTARE LA PERTINENZA DI UN ARGO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 INCAPACITA’ DI RISPETTARE I TURNI DI PARO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 VIOLAZIONE DELLO SPAZIO PERSON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 CONTATTO OCULARE MINIM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 REAZIONI AFFETTIVE INADEGU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006-6092-4406-A982-F4FF066702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INTERAZIONE SOCIALE </a:t>
            </a:r>
            <a:br>
              <a:rPr sz="1800"/>
            </a:br>
            <a:br>
              <a:rPr sz="1800"/>
            </a:br>
            <a:r>
              <a:rPr b="1" lang="en-US" sz="1400" spc="-1" strike="noStrike" u="sng">
                <a:solidFill>
                  <a:srgbClr val="999900"/>
                </a:solidFill>
                <a:uFillTx/>
                <a:latin typeface="Garamond"/>
              </a:rPr>
              <a:t>ALCUNI COMPORTAMENTI OSSERVABILI:</a:t>
            </a:r>
            <a:br>
              <a:rPr sz="1400"/>
            </a:br>
            <a:endParaRPr b="0" lang="en-US" sz="1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7 MANCANZA DI GESTUALITA’ APPROPRI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8 DIFFICOLTA’ / INCAPACITA’  DI INTERPRETARE 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GESTUALITA’ E LE ESPRESSIONI DEL VISO ALTR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9 DIFFICOLTA’ NELL’ASSUMERE LA PROSPETTIV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LTR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10 DISINTERESSE PER LE “MOD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11 POSSIBILE AGGRESSIVITA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12 POSSIBILE PASSIVITA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13 ISOLA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D9B-585E-488B-866A-0FD2DC1BF3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ABILITA’ EMOTIVE / TRE ABILITA’ DI BAS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* RICONOSCERE ED ESPRIMERE LE PROPRIE EMO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* IDENTIFICARE LE ESPERIENZE CHE INFLUISCONO SULLE EMO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* ASSUMERE LA PROSPETTIVA ALTR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784-8B8C-460B-934D-6B8E7E7D3D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4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ABILITA’ EMOTIVE /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1800" spc="-1" strike="noStrike" u="sng">
                <a:solidFill>
                  <a:srgbClr val="666600"/>
                </a:solidFill>
                <a:uFillTx/>
                <a:latin typeface="Garamond"/>
              </a:rPr>
              <a:t>ALCUNE IPOTESI D’INTERVENTO: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838080"/>
            <a:ext cx="9144000" cy="54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PERMETTERE ALLA PERSONA DI ESPRIMERE LE PROPRIE EMOZIONI  NON VERBALMENTE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(DISEGNI O RISPOSTE A DOMANDE VERO/FALSO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ARE UN NOME ALLE EMOZIONI CHE PROVA, AIUTANDOLO AD AMPLIARE IL SUO VOCABOL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IUTARE LA PERSONA A VERBALIZZARE CIO’ CHE STA FACENDO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 SENTIMENTI CHE PR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DENTIFICARE LE PARTI DEL CORPO MAGGIORMENTE COINVOLTE NELL’EMOZIONE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UGGERIRE STRATEGIE PER GESTIRE LE EMOZIONI FO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1AAB-E9DE-4D7A-A238-415B0FBC7A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ABILITA’ EMOTIVE / </a:t>
            </a:r>
            <a:r>
              <a:rPr b="1" lang="en-US" sz="1800" spc="-1" strike="noStrike" u="sng">
                <a:solidFill>
                  <a:srgbClr val="666600"/>
                </a:solidFill>
                <a:uFillTx/>
                <a:latin typeface="Garamond"/>
              </a:rPr>
              <a:t>ALCUNE IPOTESI D’INTERVENTO: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86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DENTIFICARE LE EMOZIONI SUL VOLTO ALTRUI ANALIZZAN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TOGRAFI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UIDARE LA PERSONA AL RICONOSCIMENTO DEI SENTIM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TRUI, EVIDENZIANDO I SEGNALI FISICI, TRAMITE LA VIS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 FILM / FOTOGRAFIE / LETTURA DI TES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UARDARE VIDEO SENZA VOLUME E AIUTARE IL SOGGETTO 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PRENDERE COSA STA SUCCEDEN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9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PORRE ATTIVITA’ DI DRAMMATIZZAZIONE NELLE QUALI 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RSONA POSSA INTERPRETARE RUOLI DIVER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          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9F6-6214-42AB-9AE6-101E683725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ABILITA’ EMOTIVE /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1800" spc="-1" strike="noStrike" u="sng">
                <a:solidFill>
                  <a:srgbClr val="666600"/>
                </a:solidFill>
                <a:uFillTx/>
                <a:latin typeface="Garamond"/>
              </a:rPr>
              <a:t>ALCUNE IPOTESI D’INTERVENTO:</a:t>
            </a:r>
            <a:endParaRPr b="0" lang="en-US" sz="1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UIDARE LA PERSONA ALL’OSSERVAZIONE 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RPRETAZIONE DEL COMPORTAMENTO ALTRUI, QUA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 NE PRESENTA L’OCCASIONE, NEL CONTESTO DI VI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1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IEDERE ALLA PERSONA COME SI COMPORTEREBBE SE 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OVASSE AL POSTO DEI PERSONAGGI DI FILM / RACCO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IEDERE ALLA PERSONA DI PREVEDERE I COMPORTAM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I PERSONAGGI DI FILM / RACCO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F63-77A8-49F1-A4DA-7F2214F3BD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00"/>
                </a:solidFill>
                <a:latin typeface="Garamond"/>
              </a:rPr>
              <a:t>SINDROME ASPERGER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ABILITA’ DI AFFILIAZIONE / TRE ABILITA’ DI BASE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* INIZIARE E TERMINARE UNA CONVERS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* COMPRENDERE E UTILIZZARE IL LINGUAGGIO GESTUA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* COMPRENDERE E RISPETTARE LE REGOLE DEL GRUPP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O DEL GI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F99-7132-4698-966F-44DBA25E41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6:43:13Z</dcterms:created>
  <dc:creator>narcyso</dc:creator>
  <dc:description/>
  <dc:language>en-US</dc:language>
  <cp:lastModifiedBy>HP</cp:lastModifiedBy>
  <dcterms:modified xsi:type="dcterms:W3CDTF">2014-12-16T13:51:40Z</dcterms:modified>
  <cp:revision>275</cp:revision>
  <dc:subject/>
  <dc:title>Diapositiva 1</dc:title>
</cp:coreProperties>
</file>