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3919-A422-4D88-8DF4-2A222D5C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A40-43E8-48AA-A251-A4007733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56B-B917-4B95-87AE-22EA191C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A2C-FEF2-4D0A-8FB1-0A6338E7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86F5-365D-4D8A-B08C-578D5CF7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DF78-5CC2-4E04-90B1-C00E9064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649F-6D0F-41C7-B022-B87F4E82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9F40-ABD9-4822-A42D-564E4F59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BFC9-E992-4726-80C5-D96BD9DB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043E-BD61-4EDD-9A51-725E4642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6E9F-27DF-4AAD-BED6-FBB49926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343-6740-4D1E-88AF-1683D716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62A5-30C5-4BFB-A904-032B3614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F5FC-E9BB-4412-95B6-04C57AF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FFEB-FB44-4F8C-9AC9-6FEF7A95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D215-1D39-43DF-A12D-2C96B1A0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7C4C-706E-4D65-9C39-74A00DE4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0DD-19E0-4789-A4ED-C7FEED33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0CF-88AC-40B4-9FEF-703BE37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294-3F3F-4262-98A8-AB9A4633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F14-684B-40E0-932B-20F4D593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2AE-E03F-4A8D-B8AA-29F94458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5B8-352E-4B19-8783-959720FA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7928-824A-49FB-A214-28ADCD7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C1FB-C6A8-4935-996C-18976D637C7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B7CC-521C-4343-8EF9-359A2D65430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. E. I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/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NALITA’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UMENTI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ALITA’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ITERI DI VERIFICA / PADRONANZA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C2A-6C64-4A69-B9FE-07B2B92AA6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E. I. 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ETTO DI VITA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 CONCLUSIONE, LA QUALITA’ DEL PROGETTO E’ GARANTITA DA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COINVOLGIMENTO FAMILIARI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IN TUTTO IL PERCORS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SCELTA DI OBIETTIVI POSSIBILI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PARTEND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AL PROFILO FUNZIONALE PERSONALE </a:t>
            </a: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(PUNTI DI FORZA E CAPACITA’ EMERGENTI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SCELTA DI OBIETTIVI UTILI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 CONSIDERANDO I FUTURI SCENARI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 VITA DELLA PERSO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VERIFICA COSTANTE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DELLE STRATEGIE ADOTT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&gt; </a:t>
            </a:r>
            <a:r>
              <a:rPr b="1" lang="it-IT" sz="2000" spc="-1" strike="noStrike" u="sng">
                <a:solidFill>
                  <a:srgbClr val="ff0000"/>
                </a:solidFill>
                <a:uFillTx/>
                <a:latin typeface="Arial"/>
              </a:rPr>
              <a:t>COORDINAMENTO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 FRA I  DIVERSI INTERVENTI ATTUAT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565F-A172-42E3-9FA4-AE2537F98A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. E. I. 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NELLA FORMULAZIONE DI UN PIANO D’INTERVENTO EFFICACE  E’ NECESSARIO: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DIVIDUARE OBIETTIVI SPECIFICI, BEN DEFINITI E POSSIBILI, RIFERITI 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PETENZE OSSERVABILI E MISURABIL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PECIFICARE TIPOLOGI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GRANDEZZA, FORMA, COLORE…)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L MATERIALE UTILIZZA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PECIFICARE TIPOLOGIA DEL CONTESTO DI ACCOGLIENZ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3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AULA, SCUOLA, LABORATORI…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DICARE TIPOLOGIA, QUANTITA’ E FREQUENZA DELL’AIUTO FORNI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TABILIRE UN PUNTO DI PARTENZA E UNA SUCCESSIONE DI TAPPE INTERMEDIE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FINENDO UN SISTEMA PER UNA RACCOLTA DATI IN ITINER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. VALUTARE I RISULTATI IN TEMPI PREFISSATI, DEFINENDO CRITERI PER VERIFICAR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L LIVELLO DI COMPETENZA RAGGIUN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F17-C721-4D0A-9292-F5D8A1F95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. E. I. 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IETTIVI DI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COSTRUZI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MANTENIM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DECREM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MODIFICAZIONE AMBIENTA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96F-BA1E-44B9-AE78-7511952C0E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E. I. 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IETTIVI SPECIFICI E BEN DEFINIT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RIMERE GLI OBIETTIVI UTILIZZAND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BI DI TIPO COMPORTAMENTAL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LIORARE LE ABILITA’ DI INTEGRAZIONE DI ANN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A SALUTA I COMPAGNI PRIMA DI ANDARE A CAS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B8F-AAAB-4A63-8629-E5044C9479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E. I. 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ETTO DI VITA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ATTRO DOMANDE PER INDIVIDUARE FINALITA’/OBIETTIVI DELL’INTERVENTO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 finalità/obiettivi ipotizzati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sono compatibili con i repertori soggettivi: capacità presenti ed emergenti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l profilo funzionale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sono compatibili con i valori e le aspettative degli altri contesti di vita del soggetto 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sono compatibili con le risorse esistenti nei diversi contesti di accoglienza ?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 anch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è possibile e/o opportuno modificare gli ecosistemi di vita della persona?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DB7-896B-481C-96C9-2DBD193D8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E. I. 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ETTO DI VITA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altre parole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’ UTILE 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’ POSSIBILE 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’ulteriore elemento di riflessione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’ASSENZA O LA SOLO PARZIALE DISPONIBILITA’ DELLE RISORSE NECESSARIE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LLA REALIZZAZIONE DI UN OBIETTIVO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SSONO ESSERE AFFRONTATE IDENTIFICANDO UN OBIETTIVO ALTERNATIV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- QUELLO PIU’ VICINO - COMPATIBILE CON LE RISORSE DISPONIBIL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106-5D85-43A0-875F-A00596B971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E. I. 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ETTO DI VITA</a:t>
            </a:r>
            <a:endParaRPr b="0" lang="en-US" sz="1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ICIZZARE L’INTERVENT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RE OBIETTIVI ORIENTATI AL FUTUR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PETTO PER LA STORIA PRESENTE  DELLA PERSON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UNA PROSPETTIVA DINAMICA LEGATA AI DIVERSI CICLI DI VI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2133720"/>
            <a:ext cx="486000" cy="914400"/>
          </a:xfrm>
          <a:prstGeom prst="downArrow">
            <a:avLst>
              <a:gd name="adj1" fmla="val 50000"/>
              <a:gd name="adj2" fmla="val 4703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95D3-AE29-40BC-8C01-E9955E85B4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. E. I. 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ETTO DI VI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TORICIZZARE L’INTERVENTO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&gt;   INDIVIDUARE I LUOGHI DOVE LA PERSONA TRASCORRE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 TRASCORRERA’ IL PROPRIO TEMP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&gt;   LEGGERE GLI AMBIENTI DI VITA E ANALIZZARE LE ABILITA’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SSENZIALI RICHIESTE PER LA COMPETENZA IN CIASCUNO DI ESS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&gt;   DETERMINARE QUALE DELLE ABILITA’ RICHIESTE E’ GIA’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POSSESSO DELLA PERSONA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&gt;   ELENCARE LE COMPETENZE CHE LA PERSONA ANCORA NON POSSIEDE PARTENDO DA QUELLA ECOLOGICAMENTE PRIORITARIA FINO ALLA “MENO RILEVANTE”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1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659-3DB7-4909-8B24-38B78E0B2C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. E. I. 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GETTO EDUCATIVO INDIVIDUALIZZ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PER UN’EFFICACE ATTUAZIONE DEL PROGETTO E’ NECESSARIO GARANTIRE: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GOLARITA’ / PREVEDIBILITA’ DEL CONTESTO ESPERIENZIAL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ERENZA / STABILITA’ / CONTINUITA’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TTEGGIAMENTI DEGLI ADULTI / RAPPORTI INTERPERSONAL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SO DI APPROCCI EDUCATIVI DI TIPO STRUTTURAT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COGNITIVO - COMPORTAMENTALI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F68-B009-4A8A-9A9D-D186BC94EE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6T16:21:59Z</dcterms:modified>
  <cp:revision>215</cp:revision>
  <dc:subject/>
  <dc:title>Diapositiva 1</dc:title>
</cp:coreProperties>
</file>