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62EA-C47E-493A-A774-3D0CB733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6C6F-B044-4B89-B1DB-3118BF68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6C7-BAAE-4BB8-B94C-7D272397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F12-D310-420B-97D6-112DB513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508-FD85-4AB1-8AE4-B3373851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566F-4A0B-4579-A764-D466A1B5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AD12-6008-480A-9F38-E7B06C12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160-BD2A-4E81-8831-7FFDC836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090-4FCE-4B15-A039-7AF22217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182E-AEA7-4D61-ABA0-FD323D6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D90-0CDB-43B3-A06E-095CA94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BE5-DE27-4E3D-B864-53A0941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D8F9-A498-4B92-AB3B-7BA37AE81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ORTAMENTO PROBLEMA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NEL NORMALE SVILUPPO INFAN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PI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IMITIVA FORMA DI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ECURSORE DELLA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STITUITO PROGRESSIVAMENTE DA FORME PIU’ EVOLUTE DI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218-112C-405C-8767-C07FFD5AB7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604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Verdana"/>
              </a:rPr>
              <a:t>COMPORTAMENTO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868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c3300"/>
                </a:solidFill>
                <a:uFillTx/>
                <a:latin typeface="Verdana"/>
              </a:rPr>
              <a:t>     </a:t>
            </a:r>
            <a:r>
              <a:rPr b="1" lang="it-IT" sz="2000" spc="-1" strike="noStrike" u="sng">
                <a:solidFill>
                  <a:srgbClr val="cc3300"/>
                </a:solidFill>
                <a:uFillTx/>
                <a:latin typeface="Verdana"/>
              </a:rPr>
              <a:t>QUANDO UN COMPORTAMENTO E’ UN PROBLEMA ?</a:t>
            </a: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QUANDO E’ PERICOLOSO O DANNOSO PER SE’ O PER GLI ALT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QUANDO IMPEDISCE  / OSTACOLA L’ACQUISIZIONE DI NUOVE ABIL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QUANDO INTERFERISCE CON LE ABILITA’ GIA’ AP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066680"/>
            <a:ext cx="304920" cy="106704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107-927C-4A8F-B762-D188163D0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ORTAMENTO PROBLE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cc3300"/>
                </a:solidFill>
                <a:latin typeface="Arial"/>
              </a:rPr>
              <a:t>alcune considerazioni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 IL SOGGETTO HA APPRESO Q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PORTAMENTO E’ PERCHE’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EGUENZE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BABILMENTE UN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BLEMA SERVE AL SOGGETTO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AGGIUNGERE METE 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371600"/>
            <a:ext cx="609480" cy="990720"/>
          </a:xfrm>
          <a:custGeom>
            <a:avLst/>
            <a:gdLst>
              <a:gd name="textAreaLeft" fmla="*/ 81360 w 609480"/>
              <a:gd name="textAreaRight" fmla="*/ 528120 w 60948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9880"/>
            <a:ext cx="609480" cy="106704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899-3790-4EBD-8785-53EDE13E8A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COMPORTAMENTO PROBLEMA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UNZION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35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ISTERE  - “ NON SI PUO’ NON COMPORTARS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TENERE RINFORZI / GRATIFICAZIONI TANG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ività preferite, oggetti/giocattoli preferiti, cibi grad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ITARE SOFFERENZE E/O  F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TENERE INTER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tto fisico, proposte di attività, atten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542520" y="1484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27B-487F-4C3B-9EE1-0250C2CB4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3300"/>
                </a:solidFill>
                <a:uFillTx/>
                <a:latin typeface="Arial"/>
              </a:rPr>
              <a:t>IN CONCLU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mportamento problema spesso funziona come se fosse una forma di comun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mportamento problema funzionerebbe come una forma primitiva di comunicazione per soggetti che non possiedono ancora o non usano forme più sofisticate di comunicazione per ottenere effetti desiderabili: i rinforz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97C-D196-482A-B545-9DB530F996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COMPORTAMENTO PROBLEM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MODI INAPPROPRIATI DI GEST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E ATT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IB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ACCI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ACCIARE E NON MANTEN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ALUTARE  LA PERS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RE IN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A2E-F403-4FD1-995C-395000D31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COMPORTAMENTO PROBLE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Procedure utili per gestire la 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ARE IL COMPORTAMENTO PROBLEM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GGERE IL SOGGETTO / GLI ALTRI DA POSSIBILI CONSEGUENZ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RRE SUGGERIMENTI CHE STIMOLINO COMPORTAMENTI ALTERNATIV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E2D-DFA3-4DA2-BB94-0D6CD06FDE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COMPORTAMENTO PROBLEM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LE PROCEDURE PER LA GESTIONE DI UNA CRISI COMPORTAMEN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METT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ORSE UN CONTROLLO POSI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 SOLO TEMPORA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L COMPORTAMENT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HANNO EFFETTO PREVEN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LL’EMISSIONE DEL COMPORTAMENT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14600" y="1371600"/>
            <a:ext cx="40384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ATTENZIONE!!</a:t>
            </a:r>
            <a:endParaRPr b="0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E0AA-FDA9-4087-AFE1-4C07D8119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quindi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MOMENTO MIGLI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 INTERVENIRE EDUCATIVAM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 COMPORTAMENTO PROBL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’ PROPRIO QUAN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 E’ IN A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29F-E64A-4718-9CF5-D96E80DB59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0T21:06:33Z</dcterms:modified>
  <cp:revision>218</cp:revision>
  <dc:subject/>
  <dc:title>Diapositiva 1</dc:title>
</cp:coreProperties>
</file>