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11F8-8DDD-4230-AB07-0680F85D9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B039-74A2-4365-A38D-719B0A569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1C0A-36D6-4BBC-A0FC-E6AA64652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40C9-1461-435B-B1BB-66A8FC61F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192A3-35DD-4FE4-87E1-7A3D777E6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A75CC-D363-4CE5-8F25-F98954D2E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8887A-06FB-4F22-976F-C790DCCA1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E080F-8ABD-4600-9796-0BE4B26B8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462DB-8106-4D7C-8179-666332A43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91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D61A3-0295-41E1-B826-CF790578D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73488-B737-40EF-98CF-0703C221B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02A0-2F38-4BA5-9C13-0FBC59100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5A31F-D8EA-4144-8AFA-4967C3071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25CCC-6D95-49B3-8670-20DAE52B8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E0F2B-8A7A-4F06-B286-11612CC38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2F7D8-B137-445A-8431-0B8678C57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E6EFF-4F1D-4FC8-8FF3-1518900D4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E674-43C4-49ED-9524-84D24CCE2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77A2-52DD-4A4B-8E1F-E671D9E75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906A-2626-4D1C-A09F-5C14B9919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91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CB57-DBE8-4CBB-B1C7-AB2CA8D77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25D8-890A-4B48-A1B6-44D08AD3F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F6CF-6EB2-4D2A-BAAA-C88272F73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0CFE-FC4B-4040-A1C7-FAEFD07EC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bfbf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bfbfa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bfbfa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bfbfab"/>
                        </a:solidFill>
                        <a:ln w="9360">
                          <a:solidFill>
                            <a:srgbClr val="bfbfab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bfbfa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bfbfa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bfbfa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9632E-0AAC-4A21-8972-6A5B92F8613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3366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bfbf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bfbfa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bfbfa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bfbfab"/>
                        </a:solidFill>
                        <a:ln w="9360">
                          <a:solidFill>
                            <a:srgbClr val="bfbfab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bfbfa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bfbfa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bfbfa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073B5-A9C1-425F-AC20-A1186901451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336600"/>
              </a:buClr>
              <a:buSzPct val="6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RIASSUNTO / BUONE PRAS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&gt; ANTICIPARE LE ATTIVITA’ DA SVOLGERE (AGENDA) E LA PROPOST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(SIMBOLICAMENT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&gt; SOSTENERE L’INTERESSE CON IL SUCCESSO E IL PIACERE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. INIZIARE CON ATTIVITA’ GRADITE / INTERESSANT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. ALTERNARE ATTIVITA’ “FATICOSE” CON ATTIVITA’ PIACEVOL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. PROPORRE ATTIVITA’ DI SICURO SUCCESSO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. PREPARARE MOLTE E VARIATE ATTIVITA’ PER UNA SINGOL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COMPETENZ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&gt; PROPORRE CON GRADUALITA’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. ATTIVITA’ IN 1:1 C0N L’ADULT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. ATTIVITA’ IN 1:1 CON IL COMPAGN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. ATTIVITA’ CON UN MICRO GRUPPO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&gt; PREDISPORRE/ RIORDINARE CONTESTO, MATERIALE E STRUMENTI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COINVOLGENDO SE POSSIBILE LA PERSON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&gt; STRUTTURARE I MOMENTI DI ATTESA /PAUSA FRA UN’ATTIVITA’ E L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SUCCESSIV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C1F89-9DA0-4C01-A2B8-E360DB87399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RIASSUNTO / BUONE PRAS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&gt; RICHIEDERE SECONDO OBIETTIVI PRE-DEFINIT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&gt; DEFINIRE CON CHIAREZZA – visualizzare - LA PROCEDURA OPERATIVA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&gt; VERIFICARE LA REALE COMPRENSIONE DELLA CONSEGNA DI LAVOR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&gt; ATTENDERE LA RISPOST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&gt; ESSERE FLESSIBILI NELL’EROGAZIONE DI AIUTI A SOSTEGNO DI UNA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RRETTA ESECUZION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&gt; FAR CONCLUDERE SEMPRE LA CONSEGNA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(CON TUTTO L’AIUTO NECESSARIO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&gt; RIDURRE PROGRESSIVAMENTE SUGGERIMENTI E PREM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&gt; FAVORIRE E PREMIARE RICHIESTE SE FORMULATE CORRETTAMENTE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(ANCHE EXTRA-SITUAZIONE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&gt; PREMIARE SEMPRE I COMPORTAMENTI CORRETT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(NON CONSIDERARLI MAI OVVI O SCONTATI)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5BC4E-BAF6-4EA2-A71B-E2B1E6C712D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RIASSUNTO / BUONE PRAS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&gt; ESSERE PRONTI A RICOMINCIARE DA CAPO OGNI VOLTA CHE SI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NECESSARI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&gt; RICORDARSI CHE LA COERENZA DELL’INTERVENTO NON EQUIVALE ALL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SUA IMMODIFICABILITA’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&gt; RICORDARSI CHE LA FLESSIBILITA’ E’ UN POSSIBILE OGGETTO D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PROGRAMMAZIONE E INSEGNAMENT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E601A-BD3E-43F9-89A4-0B127EB838D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6T16:43:13Z</dcterms:created>
  <dc:creator>narcyso</dc:creator>
  <dc:description/>
  <dc:language>en-US</dc:language>
  <cp:lastModifiedBy>HP</cp:lastModifiedBy>
  <dcterms:modified xsi:type="dcterms:W3CDTF">2014-01-16T16:34:16Z</dcterms:modified>
  <cp:revision>246</cp:revision>
  <dc:subject/>
  <dc:title>Diapositiva 1</dc:title>
</cp:coreProperties>
</file>